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4037-83A3-4DE1-8C9E-D48D26185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AD0E-E6BE-4D00-BA00-F9B73DA08E4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540D8C-FB32-4FC6-A12D-E6D6D319598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325979-8113-47F8-BC6F-D0230F52148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F013E-274B-4D2C-8805-2F7693C1D83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A171E-E845-4FF3-9580-0790973948D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60B66-6055-4865-A5CC-C7E923E7845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39EC0E-33A1-4D46-9FD9-5026AB9B25A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8DD7E-726F-476D-81A8-C1708CD3FFD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817DEF-0555-4CE2-B5BE-72876B9892F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46914-1D58-45E6-8B85-F741562023E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CE6264-C835-4286-BBF7-066575989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13FA-6149-46D1-9E88-C90007E9AD6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31E106-E7BA-410B-A4CC-15684C74D19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32FD44-A46E-441B-855A-DEC9AF370B8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D6A241-2EF2-4DC7-85F2-A65B25DD867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D4773A-AEC9-46D6-A3E6-AC9DF7ABF3F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99733A-A696-496B-8141-B25536CB6F0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5B212C-D702-46BC-81E9-DBD770C98B0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4B8EEB-B612-4E9F-8AC0-4D9B0A2A317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415A5B-9DFB-437C-9339-D4F92C86739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4A5D18-485B-4735-83BA-F24040D25CC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F6EB31-802D-42F3-83B0-42191D213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0E2A-C15E-40CE-AE65-40BF83C2469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A11A28-1B92-409F-9DDE-A1BE7B634F7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6EB94-F672-429A-BBA4-21D3AA7FAC3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12BE8-318F-465D-859F-450CB1566F2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AF1E0-5828-4607-803B-63135321535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6E6B9-93B9-4DA3-AB00-C5112483D9E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9E4AF-A508-4527-AB0C-1FCB34C2ED1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AA425-3B08-47E4-8168-0A7DE4F7832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412D1-4718-430E-B886-094A16014D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32254-A1A4-4981-A358-66D8580B1D4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29DE3-C181-4B14-80BF-11D5BABA3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981-A776-4D80-8AAE-17BC6F8D627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81DF3-E329-4980-B1DC-4BDD9B54736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24D19-38F1-4BA9-8635-3C30BFADCB4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1E8F8-6B54-4799-8650-07E65A8CA0F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7C09B7-913D-4ABF-916F-A61BB13F3E7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8C72E8-1FE6-4914-8A03-4F062EA0E36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5928E5-FA08-4889-9EDE-064DEC7DA35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2BF2A7-4F6E-48DF-BD26-21D005302AC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E7A51F-B144-4E01-BFBD-FC16A75D7D7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E70509-2765-4DC4-B218-9A04D37A893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43E291-202E-49E2-8204-7B39E5A0BA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B95-749A-4791-AE28-4025318F5C2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AA3453-68BF-41B0-9956-709BF90B4A5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D21E64-626A-4AA6-8505-118C58C7BDE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B09EB2-423F-4D60-A457-6D68F991D09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77A776-BCB5-4FA4-8149-DDC34DAB594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D534E0-9A21-44BB-88B1-CC56F3E735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7EE-1844-4FFB-8065-4E4C28E2BE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2D0-FFE2-463E-9523-E8199C8251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54F-8105-4744-8B75-E4A50FE1BA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FD0-BD3A-4134-9355-ED0C2D58F3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7FC-397E-4DA5-A95E-10881CF4C8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6C30-3B88-4982-BA0B-A55A30CA5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F95-17E1-4B09-A727-A7546C9F9A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1E8-B528-474C-820A-BE468CB639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581-7F48-4930-A766-C0A4B34910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E0D-7DA7-4F7C-AAB0-30D6652207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E29-71DF-4856-9298-A8AB391EF3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68427-2D58-40E5-A131-EB6CD7E9E0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425C9-675C-43F3-AF45-1389FF3C5A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0EEE7-ADCE-437B-A1C7-E22A24F37C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27985-7872-44DA-AA58-5E30924EB8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AB3FE-DC20-46EC-999C-65FCD4BA92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1964-B184-426E-983C-8B6D9DA8E0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33BDE-58AE-41DA-B700-1D0E15D907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9DF7A-D224-4C93-91A6-96824F76A5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20507-1CB2-41D2-9595-639853E400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768C8-E29A-435C-8C53-EA7F9F4A0B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AE4C4-0739-41DA-BAFC-ACAA0EAA2C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6835D-87AA-466A-9A70-1320DB1CD2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3730C-E820-4059-8B2F-F72AC69758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2B149E-8C40-40A9-9C99-FEFE1916D5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11D66F-882B-4C88-9111-C2FDEEDB06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D039C-AFAB-4F34-BD5B-93534C203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1F2E-2353-4912-A8DB-A6DA30C8383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3BCE62-1862-433F-B5A7-3DEE27D7CA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9B875C-F116-4D05-AF58-7A68B64C0F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9A3ED9-1D27-4D83-8CFC-8B7DB478A9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4CCAA7-2EDC-42E0-B53A-D3EC230867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1B6C02-A4A3-498A-A84A-630B77937B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F51954-D234-499E-9BB9-1B3056B9B8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D5A33D-73C0-4C65-A846-5F2AF8A614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3A136-A1AA-4232-8430-4450A0C905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472AA-CAFA-4669-AAE4-4E68550559A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A7886-CE7D-46A4-ADD4-1FD89D857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941F-4E9E-44EF-9A3F-14C6250DFAF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AD31B-EE98-4D3F-96A1-0298565B40F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3020D-A70A-49A0-8E04-4FE0212EF31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D372-C7F0-48CC-82CE-96005127C8A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6770D-BDD9-4284-BF8A-CBE81F23BA5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CADFA-F9B2-4448-AD25-248AB7E5EA5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39CA1-4768-4CA5-9DC5-1431F7037ED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79CD3-512F-40C1-8375-9534B63ABBA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CBD85-40FE-4DE0-9B99-02BF8E5B15A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01FF-8ECE-4444-B3F4-E6A2D1D0D3A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5D5A8-D660-49EA-A385-8CEBD82E1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7B3E-AAF0-4D2A-AF18-47264C045D7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8F0BF-6FA8-4AA4-95DB-067FA25C3EB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D475A-B9E9-4B2F-9BB6-9AAEDAE210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2A908-FD0B-4496-862D-26F12DB4863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631FAE-9BBE-4118-A8B2-15A1810CAC5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926E5F-CF14-4C25-A0EC-3806CDE0860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95FA4-40E7-4708-921F-3AFE99B80BC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1A2F49-6B9A-4B15-9D53-B3FE0219F8B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C90F24-151E-478D-8A3E-55F672B1E4F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2A543-034B-49AE-8138-F046A36BEC1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D59134-E11D-4EEF-86FB-B9388D478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CADA-803B-4272-8CC9-64FBBAD6CE5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8664C3-159E-484F-AB6E-0E17B6F82D6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FC2586-3D7D-4FCC-9787-184EAE78F4D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E5B9C-0F6F-4DAA-A4BD-A59B3A9DFAE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06438E-A898-4A70-883C-E2DD9EFA28B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56826B-155C-41F6-8B61-517D1D57B39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BE029A-1FE5-483C-B23E-72909892F9A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050FB6-B971-4B9C-A7D6-96D9425ACC1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9B19E4-7166-40EF-AB65-49A41707535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BF1671-8FB3-47D6-8244-A4AB2DF94C4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31FAAA-2029-4994-9BE8-2BD876AAE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EBB4-8E3F-4C96-A4F4-78CAB54340F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B3FB58-D46F-479C-8B64-C0EE37FA3F5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96F5ED-9C33-42C8-85E1-76BE18991D2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CD1E9F-B823-4C46-8CBF-D2E3D0E2028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978B2D-7238-4E75-9D15-BB5E458E4D3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7B8F48-2CAC-433D-A51E-D6949053F92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0F5AB-8B4F-4F20-8B42-CCD09948821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1D3E0-D3E9-4C3D-A0C1-E3722E4B676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012C2-6624-4730-9A96-29F46E81EA2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966DB-835C-4E31-BE17-03E0CE0CB6B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E6971-1E16-45FE-B327-5F185FD3B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BF2F-C7D7-4B1D-BE6F-E4279AC7D21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32B96-165A-4316-8EE0-5D896FB1E66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F9BE7-33BA-4F14-A910-E7E863711B3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696FD-1F24-4B59-BCF2-5DF181AF7F4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5358F-95F1-4432-9305-69E7ACA812F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44554-8DFA-4908-857E-9901CFFFB96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46902-532F-4DBC-B143-8AB1B44C144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2D2AB-12DC-4D4A-8E11-037E936B838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10F7B5-11B4-4F57-91AE-8AC4CB690B2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CD7DE5-B5EA-4C89-986D-9B64325C84C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396348-4BAF-4B09-A229-63A27BA44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58AE-5C00-48C2-962D-7F9EC8937CAF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89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2ED3-1FFB-4F3C-BA56-3C59966664E8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32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7866-7018-49F4-9C9E-547CC1F9895D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75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13AD-8923-4988-B1C0-8F18D652DB21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5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AE55-65C4-4D36-B7A5-77F5873D2103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8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3DBC-F15E-4CF7-A925-76DDA2BD17BC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1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85A3-57B2-4651-BCC8-6840F4640B7E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4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FB94-C479-40DC-A2A0-E6CFFBA1E98D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17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63AF-E26C-41FA-9661-8A4CAF080625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60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AE7B-F05B-4546-9B6A-2BC51D3B0018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03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2FAC-ECAA-4C28-A085-7AAE811E80E9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46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BA3A-EE6A-4C6C-A332-458E8658BA16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%5C..%5C..%5C..%5CTEMP%5CContent.IE5%5CC1M3456V%5CMain_JAVA12.ppt" TargetMode="External"/><Relationship Id="rId2" Type="http://schemas.openxmlformats.org/officeDocument/2006/relationships/hyperlink" Target="file:///..%5C..%5C..%5C..%5CTEMP%5CContent.IE5%5CC1M3456V%5CMain_JAVA12.ppt" TargetMode="External"/><Relationship Id="rId3" Type="http://schemas.openxmlformats.org/officeDocument/2006/relationships/hyperlink" Target="file:///..%5C..%5C..%5C..%5CTEMP%5CContent.IE5%5CC1M3456V%5CMain_JAVA12.ppt" TargetMode="Externa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cture 12: S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9" name="Object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oving Insertion Sort Correc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380880" y="2209680"/>
            <a:ext cx="6629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sertionSort(int A[]) {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i=1; i &lt; A.length; i++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j=i; j&gt;0 &amp;&amp; A[j]&lt;A[j-1]; j--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[j],A[j-1]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Text Box 18"/>
          <p:cNvSpPr/>
          <p:nvPr/>
        </p:nvSpPr>
        <p:spPr>
          <a:xfrm>
            <a:off x="53352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invariant?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Rectangle 19"/>
          <p:cNvSpPr/>
          <p:nvPr/>
        </p:nvSpPr>
        <p:spPr>
          <a:xfrm>
            <a:off x="1066680" y="3657600"/>
            <a:ext cx="71629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5" name="Freeform 20"/>
          <p:cNvSpPr/>
          <p:nvPr/>
        </p:nvSpPr>
        <p:spPr>
          <a:xfrm>
            <a:off x="4349880" y="2652840"/>
            <a:ext cx="1409400" cy="990360"/>
          </a:xfrm>
          <a:custGeom>
            <a:avLst/>
            <a:gdLst>
              <a:gd name="textAreaLeft" fmla="*/ 0 w 1409400"/>
              <a:gd name="textAreaRight" fmla="*/ 1409760 w 1409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888" h="1008">
                <a:moveTo>
                  <a:pt x="576" y="0"/>
                </a:moveTo>
                <a:cubicBezTo>
                  <a:pt x="732" y="104"/>
                  <a:pt x="888" y="208"/>
                  <a:pt x="816" y="336"/>
                </a:cubicBezTo>
                <a:cubicBezTo>
                  <a:pt x="744" y="464"/>
                  <a:pt x="280" y="656"/>
                  <a:pt x="144" y="768"/>
                </a:cubicBezTo>
                <a:cubicBezTo>
                  <a:pt x="8" y="880"/>
                  <a:pt x="4" y="944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Rectangle 22"/>
          <p:cNvSpPr/>
          <p:nvPr/>
        </p:nvSpPr>
        <p:spPr>
          <a:xfrm>
            <a:off x="1066680" y="3657600"/>
            <a:ext cx="29718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7" name="Text Box 23"/>
          <p:cNvSpPr/>
          <p:nvPr/>
        </p:nvSpPr>
        <p:spPr>
          <a:xfrm>
            <a:off x="99072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4114800" y="4495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Text Box 25"/>
          <p:cNvSpPr/>
          <p:nvPr/>
        </p:nvSpPr>
        <p:spPr>
          <a:xfrm>
            <a:off x="83059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0" name="Rectangle 26"/>
          <p:cNvSpPr/>
          <p:nvPr/>
        </p:nvSpPr>
        <p:spPr>
          <a:xfrm>
            <a:off x="4038480" y="365760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Text Box 27"/>
          <p:cNvSpPr/>
          <p:nvPr/>
        </p:nvSpPr>
        <p:spPr>
          <a:xfrm>
            <a:off x="2286000" y="3809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2"/>
              <p:cNvSpPr txBox="1"/>
              <p:nvPr/>
            </p:nvSpPr>
            <p:spPr>
              <a:xfrm>
                <a:off x="2540160" y="4962600"/>
                <a:ext cx="4351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∀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u</m:t>
                        </m:r>
                        <m:r>
                          <m:t xml:space="preserve">&lt;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3" name="Text Box 29"/>
          <p:cNvSpPr/>
          <p:nvPr/>
        </p:nvSpPr>
        <p:spPr>
          <a:xfrm>
            <a:off x="434880" y="55530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=1, i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trivially true, When when i=n, array is sorted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Now consider inner loop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1189080" y="1271520"/>
            <a:ext cx="6629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sertionSort(int A[]) {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i=1; i &lt; A.length; i++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j=i; j&gt;0 &amp;&amp; A[j]&lt;A[j-1]; j--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[j],A[j-1]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826920" y="4618080"/>
                <a:ext cx="76917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∀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u</m:t>
                        </m:r>
                        <m:r>
                          <m:t xml:space="preserve">&lt;</m:t>
                        </m:r>
                        <m:r>
                          <m:t xml:space="preserve">j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∧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  <m:r>
                          <m:t xml:space="preserve">&lt;</m:t>
                        </m:r>
                        <m:r>
                          <m:t xml:space="preserve">w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8" name="Text Box 19"/>
          <p:cNvSpPr/>
          <p:nvPr/>
        </p:nvSpPr>
        <p:spPr>
          <a:xfrm>
            <a:off x="685800" y="5292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vially true when j=i,  and implies outer loop invariant when it exits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1120680" y="3990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5921280" y="3990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3787920" y="3990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Freeform 6"/>
          <p:cNvSpPr/>
          <p:nvPr/>
        </p:nvSpPr>
        <p:spPr>
          <a:xfrm>
            <a:off x="5845320" y="2467080"/>
            <a:ext cx="1409400" cy="685800"/>
          </a:xfrm>
          <a:custGeom>
            <a:avLst/>
            <a:gdLst>
              <a:gd name="textAreaLeft" fmla="*/ 0 w 1409400"/>
              <a:gd name="textAreaRight" fmla="*/ 1409760 w 1409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888" h="1008">
                <a:moveTo>
                  <a:pt x="576" y="0"/>
                </a:moveTo>
                <a:cubicBezTo>
                  <a:pt x="732" y="104"/>
                  <a:pt x="888" y="208"/>
                  <a:pt x="816" y="336"/>
                </a:cubicBezTo>
                <a:cubicBezTo>
                  <a:pt x="744" y="464"/>
                  <a:pt x="280" y="656"/>
                  <a:pt x="144" y="768"/>
                </a:cubicBezTo>
                <a:cubicBezTo>
                  <a:pt x="8" y="880"/>
                  <a:pt x="4" y="944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8435880" y="3914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1197000" y="3152880"/>
            <a:ext cx="71629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1197000" y="3152880"/>
            <a:ext cx="510552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2111400" y="330516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3711600" y="31528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Text Box 18"/>
          <p:cNvSpPr/>
          <p:nvPr/>
        </p:nvSpPr>
        <p:spPr>
          <a:xfrm>
            <a:off x="4778280" y="330516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Text Box 20"/>
          <p:cNvSpPr/>
          <p:nvPr/>
        </p:nvSpPr>
        <p:spPr>
          <a:xfrm>
            <a:off x="3559320" y="3457440"/>
            <a:ext cx="30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1174680" y="1150920"/>
            <a:ext cx="6629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sertionSort(int A[]) {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i=1; i &lt; A.length; i++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j=i; j&gt;0 &amp;&amp; A[j]&lt;A[j-1]; j--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[j],A[j-1]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2" name="Group 45"/>
          <p:cNvGrpSpPr/>
          <p:nvPr/>
        </p:nvGrpSpPr>
        <p:grpSpPr>
          <a:xfrm>
            <a:off x="1066680" y="2128680"/>
            <a:ext cx="8077320" cy="3644640"/>
            <a:chOff x="1066680" y="2128680"/>
            <a:chExt cx="8077320" cy="3644640"/>
          </a:xfrm>
        </p:grpSpPr>
        <p:sp>
          <p:nvSpPr>
            <p:cNvPr id="583" name="Rectangle 5"/>
            <p:cNvSpPr/>
            <p:nvPr/>
          </p:nvSpPr>
          <p:spPr>
            <a:xfrm>
              <a:off x="1447560" y="2814480"/>
              <a:ext cx="716292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4" name="Freeform 6"/>
            <p:cNvSpPr/>
            <p:nvPr/>
          </p:nvSpPr>
          <p:spPr>
            <a:xfrm>
              <a:off x="6095880" y="2128680"/>
              <a:ext cx="1409760" cy="68580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888" h="1008">
                  <a:moveTo>
                    <a:pt x="576" y="0"/>
                  </a:moveTo>
                  <a:cubicBezTo>
                    <a:pt x="732" y="104"/>
                    <a:pt x="888" y="208"/>
                    <a:pt x="816" y="336"/>
                  </a:cubicBezTo>
                  <a:cubicBezTo>
                    <a:pt x="744" y="464"/>
                    <a:pt x="280" y="656"/>
                    <a:pt x="144" y="768"/>
                  </a:cubicBezTo>
                  <a:cubicBezTo>
                    <a:pt x="8" y="880"/>
                    <a:pt x="4" y="944"/>
                    <a:pt x="0" y="10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5" name="Rectangle 7"/>
            <p:cNvSpPr/>
            <p:nvPr/>
          </p:nvSpPr>
          <p:spPr>
            <a:xfrm>
              <a:off x="1447560" y="2814480"/>
              <a:ext cx="5105520" cy="9144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6" name="Text Box 8"/>
            <p:cNvSpPr/>
            <p:nvPr/>
          </p:nvSpPr>
          <p:spPr>
            <a:xfrm>
              <a:off x="1371600" y="3652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7" name="Text Box 9"/>
            <p:cNvSpPr/>
            <p:nvPr/>
          </p:nvSpPr>
          <p:spPr>
            <a:xfrm>
              <a:off x="6172200" y="3652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8" name="Text Box 10"/>
            <p:cNvSpPr/>
            <p:nvPr/>
          </p:nvSpPr>
          <p:spPr>
            <a:xfrm>
              <a:off x="8686800" y="357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9" name="Text Box 11"/>
            <p:cNvSpPr/>
            <p:nvPr/>
          </p:nvSpPr>
          <p:spPr>
            <a:xfrm>
              <a:off x="2286000" y="296676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1" lang="en-US" sz="3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0" name="Text Box 12"/>
            <p:cNvSpPr/>
            <p:nvPr/>
          </p:nvSpPr>
          <p:spPr>
            <a:xfrm>
              <a:off x="4038480" y="3652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1" name="Line 14"/>
            <p:cNvSpPr/>
            <p:nvPr/>
          </p:nvSpPr>
          <p:spPr>
            <a:xfrm>
              <a:off x="3962160" y="2814480"/>
              <a:ext cx="0" cy="91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2" name="Text Box 15"/>
            <p:cNvSpPr/>
            <p:nvPr/>
          </p:nvSpPr>
          <p:spPr>
            <a:xfrm>
              <a:off x="5029200" y="296676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1" lang="en-US" sz="3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3" name="Text Box 17"/>
            <p:cNvSpPr/>
            <p:nvPr/>
          </p:nvSpPr>
          <p:spPr>
            <a:xfrm>
              <a:off x="3809880" y="40334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&lt;x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4" name="Rectangle 18"/>
            <p:cNvSpPr/>
            <p:nvPr/>
          </p:nvSpPr>
          <p:spPr>
            <a:xfrm>
              <a:off x="3581280" y="2814480"/>
              <a:ext cx="38088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5" name="Rectangle 19"/>
            <p:cNvSpPr/>
            <p:nvPr/>
          </p:nvSpPr>
          <p:spPr>
            <a:xfrm>
              <a:off x="3962160" y="2814480"/>
              <a:ext cx="3812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6" name="Text Box 20"/>
            <p:cNvSpPr/>
            <p:nvPr/>
          </p:nvSpPr>
          <p:spPr>
            <a:xfrm>
              <a:off x="2438280" y="43383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o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7" name="Rectangle 21"/>
            <p:cNvSpPr/>
            <p:nvPr/>
          </p:nvSpPr>
          <p:spPr>
            <a:xfrm>
              <a:off x="1066680" y="4719240"/>
              <a:ext cx="27432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8" name="Rectangle 22"/>
            <p:cNvSpPr/>
            <p:nvPr/>
          </p:nvSpPr>
          <p:spPr>
            <a:xfrm>
              <a:off x="1066680" y="4719240"/>
              <a:ext cx="1905120" cy="76212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9" name="Text Box 23"/>
            <p:cNvSpPr/>
            <p:nvPr/>
          </p:nvSpPr>
          <p:spPr>
            <a:xfrm>
              <a:off x="1701360" y="48304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0" name="Rectangle 24"/>
            <p:cNvSpPr/>
            <p:nvPr/>
          </p:nvSpPr>
          <p:spPr>
            <a:xfrm>
              <a:off x="5867280" y="4643280"/>
              <a:ext cx="2743200" cy="76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1" name="Rectangle 25"/>
            <p:cNvSpPr/>
            <p:nvPr/>
          </p:nvSpPr>
          <p:spPr>
            <a:xfrm>
              <a:off x="5790960" y="4643280"/>
              <a:ext cx="2210040" cy="76176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2" name="Text Box 26"/>
            <p:cNvSpPr/>
            <p:nvPr/>
          </p:nvSpPr>
          <p:spPr>
            <a:xfrm>
              <a:off x="6060600" y="4754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3" name="Text Box 27"/>
            <p:cNvSpPr/>
            <p:nvPr/>
          </p:nvSpPr>
          <p:spPr>
            <a:xfrm>
              <a:off x="5790960" y="426204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es, then swap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4" name="Text Box 28"/>
            <p:cNvSpPr/>
            <p:nvPr/>
          </p:nvSpPr>
          <p:spPr>
            <a:xfrm>
              <a:off x="3581280" y="3119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5" name="Text Box 29"/>
            <p:cNvSpPr/>
            <p:nvPr/>
          </p:nvSpPr>
          <p:spPr>
            <a:xfrm>
              <a:off x="3962160" y="3119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6" name="Text Box 34"/>
            <p:cNvSpPr/>
            <p:nvPr/>
          </p:nvSpPr>
          <p:spPr>
            <a:xfrm>
              <a:off x="6705360" y="48099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7" name="Text Box 35"/>
            <p:cNvSpPr/>
            <p:nvPr/>
          </p:nvSpPr>
          <p:spPr>
            <a:xfrm>
              <a:off x="6896160" y="479556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8" name="Text Box 36"/>
            <p:cNvSpPr/>
            <p:nvPr/>
          </p:nvSpPr>
          <p:spPr>
            <a:xfrm>
              <a:off x="7391160" y="4757400"/>
              <a:ext cx="3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9" name="Line 37"/>
            <p:cNvSpPr/>
            <p:nvPr/>
          </p:nvSpPr>
          <p:spPr>
            <a:xfrm>
              <a:off x="6705360" y="46432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0" name="Text Box 38"/>
            <p:cNvSpPr/>
            <p:nvPr/>
          </p:nvSpPr>
          <p:spPr>
            <a:xfrm>
              <a:off x="6629400" y="54050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j-1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1" name="Line 39"/>
            <p:cNvSpPr/>
            <p:nvPr/>
          </p:nvSpPr>
          <p:spPr>
            <a:xfrm flipH="1">
              <a:off x="3047760" y="4262040"/>
              <a:ext cx="6098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2" name="Line 41"/>
            <p:cNvSpPr/>
            <p:nvPr/>
          </p:nvSpPr>
          <p:spPr>
            <a:xfrm>
              <a:off x="4800600" y="4338360"/>
              <a:ext cx="9144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13" name="Text Box 42"/>
          <p:cNvSpPr/>
          <p:nvPr/>
        </p:nvSpPr>
        <p:spPr>
          <a:xfrm>
            <a:off x="912960" y="56134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 inner loop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4" name="Text Box 43"/>
          <p:cNvSpPr/>
          <p:nvPr/>
        </p:nvSpPr>
        <p:spPr>
          <a:xfrm>
            <a:off x="5257800" y="5653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--, continue loop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517320"/>
            <a:ext cx="9144000" cy="88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What happens inside inner loop?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hat is the Average Time for Insertion Sort?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304920" y="2093760"/>
            <a:ext cx="8458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ning time is proportional to number of swaps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swap of adjacent items decreas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isor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y one unit wher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order = number of i&lt;j such that A[i]&gt;A[j]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fore running time is proportional to disorder and average running time is proportional to average disorder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2092320" y="144288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Best i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), Worst i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042040" cy="11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verage disorder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622" name="Object 2"/>
          <p:cNvGraphicFramePr/>
          <p:nvPr/>
        </p:nvGraphicFramePr>
        <p:xfrm>
          <a:off x="2625840" y="1276200"/>
          <a:ext cx="5767200" cy="45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5840" y="1276200"/>
                    <a:ext cx="576720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Text Box 4"/>
          <p:cNvSpPr/>
          <p:nvPr/>
        </p:nvSpPr>
        <p:spPr>
          <a:xfrm>
            <a:off x="1571760" y="56894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n=4 Average disorder = 72/24 = 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hat is the Average Disorder?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304920" y="1471680"/>
            <a:ext cx="84582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he average disorder for a sequence of n items is n(n-1)/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ssume all permutations of array A equally likely. If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reverse of A, then disorder(A) + disorder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n(n-1)/2 because A[i]&lt;A[j] iff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i]&gt;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j]. Thus the average disorder over all permutations is n(n-1)/4.  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he average running time of </a:t>
            </a:r>
            <a:r>
              <a:rPr b="0" i="1" lang="en-US" sz="2400" spc="-1" strike="noStrike">
                <a:solidFill>
                  <a:srgbClr val="fa0000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rting program that swaps only adjacent elements i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It will have to do n(n-1)/4 swaps and may waste time in other ways.  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-360" y="835200"/>
            <a:ext cx="88470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o better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(n</a:t>
            </a:r>
            <a:r>
              <a:rPr b="0" lang="en-US" sz="4400" spc="-1" strike="noStrike" baseline="30000">
                <a:solidFill>
                  <a:srgbClr val="3333cc"/>
                </a:solidFill>
                <a:latin typeface="Verdana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) we must compare non-adjacent element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762120" y="2854440"/>
            <a:ext cx="8381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ell Sort: Swap elements n/2, n/4, … apart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p Sort: Swap A[i] with A[i/2]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ckSort: Swap around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a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dea of Merge Sor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elements to be sorted into two groups of equal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rt each ha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rge the results using a simultaneous pass through e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suedocode for Merge Sor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mergesort(int data[], int first, int n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n &gt; 1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n1 = n/2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n2 = n - n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sort(data, first, n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sort(data, first+n1, n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(data, first, n1, n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How fast could a sort that uses binary comparisons run?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685800" y="17524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4 numbers, a, b, c, d. Merge Sort approa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0" name="Text Box 38"/>
          <p:cNvSpPr/>
          <p:nvPr/>
        </p:nvSpPr>
        <p:spPr>
          <a:xfrm>
            <a:off x="7442280" y="53499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b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amp;b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1" name="Text Box 40"/>
          <p:cNvSpPr/>
          <p:nvPr/>
        </p:nvSpPr>
        <p:spPr>
          <a:xfrm>
            <a:off x="434880" y="5318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&lt;a&lt;b&amp;c&lt;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2" name="Text Box 39"/>
          <p:cNvSpPr/>
          <p:nvPr/>
        </p:nvSpPr>
        <p:spPr>
          <a:xfrm>
            <a:off x="6167520" y="5398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d&lt;b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amp;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43" name="Group 43"/>
          <p:cNvGrpSpPr/>
          <p:nvPr/>
        </p:nvGrpSpPr>
        <p:grpSpPr>
          <a:xfrm>
            <a:off x="1366920" y="2503440"/>
            <a:ext cx="7010280" cy="3050280"/>
            <a:chOff x="1366920" y="2503440"/>
            <a:chExt cx="7010280" cy="3050280"/>
          </a:xfrm>
        </p:grpSpPr>
        <p:sp>
          <p:nvSpPr>
            <p:cNvPr id="644" name="Text Box 9"/>
            <p:cNvSpPr/>
            <p:nvPr/>
          </p:nvSpPr>
          <p:spPr>
            <a:xfrm>
              <a:off x="3957480" y="2503440"/>
              <a:ext cx="1067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&lt;b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5" name="Text Box 10"/>
            <p:cNvSpPr/>
            <p:nvPr/>
          </p:nvSpPr>
          <p:spPr>
            <a:xfrm>
              <a:off x="3424320" y="2884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6" name="Text Box 11"/>
            <p:cNvSpPr/>
            <p:nvPr/>
          </p:nvSpPr>
          <p:spPr>
            <a:xfrm>
              <a:off x="5100480" y="2884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7" name="Text Box 12"/>
            <p:cNvSpPr/>
            <p:nvPr/>
          </p:nvSpPr>
          <p:spPr>
            <a:xfrm>
              <a:off x="2738520" y="3417840"/>
              <a:ext cx="10666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&lt;d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8" name="Text Box 13"/>
            <p:cNvSpPr/>
            <p:nvPr/>
          </p:nvSpPr>
          <p:spPr>
            <a:xfrm>
              <a:off x="5253120" y="3417840"/>
              <a:ext cx="10666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&lt;d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9" name="Text Box 14"/>
            <p:cNvSpPr/>
            <p:nvPr/>
          </p:nvSpPr>
          <p:spPr>
            <a:xfrm>
              <a:off x="2357280" y="3798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0" name="Text Box 15"/>
            <p:cNvSpPr/>
            <p:nvPr/>
          </p:nvSpPr>
          <p:spPr>
            <a:xfrm>
              <a:off x="4948200" y="3798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6243480" y="3798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2" name="Text Box 17"/>
            <p:cNvSpPr/>
            <p:nvPr/>
          </p:nvSpPr>
          <p:spPr>
            <a:xfrm>
              <a:off x="3728880" y="38750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3" name="Text Box 18"/>
            <p:cNvSpPr/>
            <p:nvPr/>
          </p:nvSpPr>
          <p:spPr>
            <a:xfrm>
              <a:off x="1671480" y="4484520"/>
              <a:ext cx="1067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&lt;a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4" name="Text Box 19"/>
            <p:cNvSpPr/>
            <p:nvPr/>
          </p:nvSpPr>
          <p:spPr>
            <a:xfrm>
              <a:off x="3500280" y="4484520"/>
              <a:ext cx="1067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&lt;a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5" name="Text Box 20"/>
            <p:cNvSpPr/>
            <p:nvPr/>
          </p:nvSpPr>
          <p:spPr>
            <a:xfrm>
              <a:off x="5024520" y="4484520"/>
              <a:ext cx="10666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&lt;b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6" name="Text Box 21"/>
            <p:cNvSpPr/>
            <p:nvPr/>
          </p:nvSpPr>
          <p:spPr>
            <a:xfrm>
              <a:off x="6700680" y="4484520"/>
              <a:ext cx="1067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&lt;b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7" name="Text Box 23"/>
            <p:cNvSpPr/>
            <p:nvPr/>
          </p:nvSpPr>
          <p:spPr>
            <a:xfrm>
              <a:off x="1366920" y="4865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8" name="Text Box 24"/>
            <p:cNvSpPr/>
            <p:nvPr/>
          </p:nvSpPr>
          <p:spPr>
            <a:xfrm>
              <a:off x="3348000" y="4941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9" name="Text Box 25"/>
            <p:cNvSpPr/>
            <p:nvPr/>
          </p:nvSpPr>
          <p:spPr>
            <a:xfrm>
              <a:off x="4414680" y="4941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0" name="Text Box 26"/>
            <p:cNvSpPr/>
            <p:nvPr/>
          </p:nvSpPr>
          <p:spPr>
            <a:xfrm>
              <a:off x="2585880" y="4941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1" name="Text Box 27"/>
            <p:cNvSpPr/>
            <p:nvPr/>
          </p:nvSpPr>
          <p:spPr>
            <a:xfrm>
              <a:off x="4948200" y="4865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2" name="Text Box 28"/>
            <p:cNvSpPr/>
            <p:nvPr/>
          </p:nvSpPr>
          <p:spPr>
            <a:xfrm>
              <a:off x="6548400" y="4865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3" name="Text Box 29"/>
            <p:cNvSpPr/>
            <p:nvPr/>
          </p:nvSpPr>
          <p:spPr>
            <a:xfrm>
              <a:off x="7691400" y="4865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4" name="Text Box 30"/>
            <p:cNvSpPr/>
            <p:nvPr/>
          </p:nvSpPr>
          <p:spPr>
            <a:xfrm>
              <a:off x="6014880" y="4865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5" name="Text Box 36"/>
            <p:cNvSpPr/>
            <p:nvPr/>
          </p:nvSpPr>
          <p:spPr>
            <a:xfrm>
              <a:off x="6700680" y="395136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0000"/>
                  </a:solidFill>
                  <a:latin typeface="Courier New"/>
                </a:rPr>
                <a:t>b</a:t>
              </a:r>
              <a:r>
                <a:rPr b="1" lang="en-US" sz="1400" spc="-1" strike="noStrike">
                  <a:solidFill>
                    <a:srgbClr val="fa0000"/>
                  </a:solidFill>
                  <a:latin typeface="Symbol"/>
                  <a:ea typeface="Symbol"/>
                </a:rPr>
                <a:t></a:t>
              </a:r>
              <a:r>
                <a:rPr b="1" lang="en-US" sz="1400" spc="-1" strike="noStrike">
                  <a:solidFill>
                    <a:srgbClr val="fa0000"/>
                  </a:solidFill>
                  <a:latin typeface="Courier New"/>
                </a:rPr>
                <a:t>a&amp;d</a:t>
              </a:r>
              <a:r>
                <a:rPr b="1" lang="en-US" sz="1400" spc="-1" strike="noStrike">
                  <a:solidFill>
                    <a:srgbClr val="fa0000"/>
                  </a:solidFill>
                  <a:latin typeface="Symbol"/>
                  <a:ea typeface="Symbol"/>
                </a:rPr>
                <a:t></a:t>
              </a:r>
              <a:r>
                <a:rPr b="1" lang="en-US" sz="1400" spc="-1" strike="noStrike">
                  <a:solidFill>
                    <a:srgbClr val="fa0000"/>
                  </a:solidFill>
                  <a:latin typeface="Courier New"/>
                </a:rPr>
                <a:t>c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6" name="Text Box 42"/>
            <p:cNvSpPr/>
            <p:nvPr/>
          </p:nvSpPr>
          <p:spPr>
            <a:xfrm>
              <a:off x="2205000" y="52466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0000"/>
                  </a:solidFill>
                  <a:latin typeface="Courier New"/>
                </a:rPr>
                <a:t>a&lt;b&amp;a</a:t>
              </a:r>
              <a:r>
                <a:rPr b="1" lang="en-US" sz="1400" spc="-1" strike="noStrike">
                  <a:solidFill>
                    <a:srgbClr val="fa0000"/>
                  </a:solidFill>
                  <a:latin typeface="Symbol"/>
                  <a:ea typeface="Symbol"/>
                </a:rPr>
                <a:t></a:t>
              </a:r>
              <a:r>
                <a:rPr b="1" lang="en-US" sz="1400" spc="-1" strike="noStrike">
                  <a:solidFill>
                    <a:srgbClr val="fa0000"/>
                  </a:solidFill>
                  <a:latin typeface="Courier New"/>
                </a:rPr>
                <a:t>c&lt;d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5440" y="228420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9880" indent="-38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ness proof digr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various sorts, analy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ion, Selection, Merge, Rad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per &amp; Lower Bo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x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3581280" y="1371600"/>
            <a:ext cx="10670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&lt;b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304812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472428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2362320" y="2286000"/>
            <a:ext cx="1066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&lt;d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4876920" y="2286000"/>
            <a:ext cx="1066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&lt;d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Text Box 13"/>
          <p:cNvSpPr/>
          <p:nvPr/>
        </p:nvSpPr>
        <p:spPr>
          <a:xfrm>
            <a:off x="1295280" y="3352680"/>
            <a:ext cx="10670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&lt;a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3124080" y="3352680"/>
            <a:ext cx="10670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&lt;a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4648320" y="3352680"/>
            <a:ext cx="1066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&lt;b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6" name="Text Box 16"/>
          <p:cNvSpPr/>
          <p:nvPr/>
        </p:nvSpPr>
        <p:spPr>
          <a:xfrm>
            <a:off x="6324480" y="3352680"/>
            <a:ext cx="10670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&lt;b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7" name="Text Box 25"/>
          <p:cNvSpPr/>
          <p:nvPr/>
        </p:nvSpPr>
        <p:spPr>
          <a:xfrm>
            <a:off x="5791320" y="2819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b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amp;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8" name="Text Box 26"/>
          <p:cNvSpPr/>
          <p:nvPr/>
        </p:nvSpPr>
        <p:spPr>
          <a:xfrm>
            <a:off x="7315200" y="38862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b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amp;b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Text Box 27"/>
          <p:cNvSpPr/>
          <p:nvPr/>
        </p:nvSpPr>
        <p:spPr>
          <a:xfrm>
            <a:off x="5791320" y="38862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d&lt;b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amp;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0" name="Text Box 28"/>
          <p:cNvSpPr/>
          <p:nvPr/>
        </p:nvSpPr>
        <p:spPr>
          <a:xfrm>
            <a:off x="304920" y="38862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&lt;a&lt;b&amp;c&lt;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1" name="Text Box 29"/>
          <p:cNvSpPr/>
          <p:nvPr/>
        </p:nvSpPr>
        <p:spPr>
          <a:xfrm>
            <a:off x="1295280" y="4724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&lt;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sk only questions you don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 know answers to.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3" name="Text Box 31"/>
          <p:cNvSpPr/>
          <p:nvPr/>
        </p:nvSpPr>
        <p:spPr>
          <a:xfrm>
            <a:off x="1981080" y="4191120"/>
            <a:ext cx="10670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&lt;c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4" name="Text Box 34"/>
          <p:cNvSpPr/>
          <p:nvPr/>
        </p:nvSpPr>
        <p:spPr>
          <a:xfrm>
            <a:off x="1828800" y="38862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&amp;a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&lt;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5" name="Text Box 35"/>
          <p:cNvSpPr/>
          <p:nvPr/>
        </p:nvSpPr>
        <p:spPr>
          <a:xfrm>
            <a:off x="2819520" y="47242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 &amp; a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&lt;d &amp; c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Text Box 36"/>
          <p:cNvSpPr/>
          <p:nvPr/>
        </p:nvSpPr>
        <p:spPr>
          <a:xfrm>
            <a:off x="3048120" y="5105520"/>
            <a:ext cx="1218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&lt;d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7" name="Text Box 37"/>
          <p:cNvSpPr/>
          <p:nvPr/>
        </p:nvSpPr>
        <p:spPr>
          <a:xfrm>
            <a:off x="4114800" y="56386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&lt;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8" name="Text Box 38"/>
          <p:cNvSpPr/>
          <p:nvPr/>
        </p:nvSpPr>
        <p:spPr>
          <a:xfrm>
            <a:off x="2286000" y="5562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b&lt;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9" name="Text Box 39"/>
          <p:cNvSpPr/>
          <p:nvPr/>
        </p:nvSpPr>
        <p:spPr>
          <a:xfrm>
            <a:off x="2857680" y="602136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compare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0" name="Text Box 40"/>
          <p:cNvSpPr/>
          <p:nvPr/>
        </p:nvSpPr>
        <p:spPr>
          <a:xfrm>
            <a:off x="635040" y="4878360"/>
            <a:ext cx="23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ompare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 different strategy, insertion sorts, may get lucky.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693" name="Group 24"/>
          <p:cNvGrpSpPr/>
          <p:nvPr/>
        </p:nvGrpSpPr>
        <p:grpSpPr>
          <a:xfrm>
            <a:off x="1857240" y="2079720"/>
            <a:ext cx="4952880" cy="3142440"/>
            <a:chOff x="1857240" y="2079720"/>
            <a:chExt cx="4952880" cy="3142440"/>
          </a:xfrm>
        </p:grpSpPr>
        <p:sp>
          <p:nvSpPr>
            <p:cNvPr id="694" name="Text Box 2"/>
            <p:cNvSpPr/>
            <p:nvPr/>
          </p:nvSpPr>
          <p:spPr>
            <a:xfrm>
              <a:off x="4981320" y="2079720"/>
              <a:ext cx="1067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&lt;b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5" name="Text Box 3"/>
            <p:cNvSpPr/>
            <p:nvPr/>
          </p:nvSpPr>
          <p:spPr>
            <a:xfrm>
              <a:off x="4448160" y="246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6" name="Text Box 4"/>
            <p:cNvSpPr/>
            <p:nvPr/>
          </p:nvSpPr>
          <p:spPr>
            <a:xfrm>
              <a:off x="6124320" y="246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7" name="Text Box 5"/>
            <p:cNvSpPr/>
            <p:nvPr/>
          </p:nvSpPr>
          <p:spPr>
            <a:xfrm>
              <a:off x="3762360" y="2994120"/>
              <a:ext cx="10666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b&lt;c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2847960" y="3679920"/>
              <a:ext cx="10666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&lt;d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9" name="Text Box 14"/>
            <p:cNvSpPr/>
            <p:nvPr/>
          </p:nvSpPr>
          <p:spPr>
            <a:xfrm>
              <a:off x="1857240" y="42894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0000"/>
                  </a:solidFill>
                  <a:latin typeface="Courier New"/>
                </a:rPr>
                <a:t>a&lt;b&lt;c&lt;d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0" name="Text Box 23"/>
            <p:cNvSpPr/>
            <p:nvPr/>
          </p:nvSpPr>
          <p:spPr>
            <a:xfrm>
              <a:off x="1992240" y="4762440"/>
              <a:ext cx="22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 compare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2" name="Text Box 2"/>
          <p:cNvSpPr/>
          <p:nvPr/>
        </p:nvSpPr>
        <p:spPr>
          <a:xfrm>
            <a:off x="3581280" y="1676520"/>
            <a:ext cx="10670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&lt;b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30481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472428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2362320" y="2590920"/>
            <a:ext cx="1066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&lt;c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1447920" y="3276720"/>
            <a:ext cx="1066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&lt;d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7" name="Text Box 7"/>
          <p:cNvSpPr/>
          <p:nvPr/>
        </p:nvSpPr>
        <p:spPr>
          <a:xfrm>
            <a:off x="457200" y="38862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&lt;c&lt;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ut it may be unlucky.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3429000" y="3124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 &amp; c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3505320" y="3505320"/>
            <a:ext cx="1066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&lt;c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1" name="Text Box 11"/>
          <p:cNvSpPr/>
          <p:nvPr/>
        </p:nvSpPr>
        <p:spPr>
          <a:xfrm>
            <a:off x="4651200" y="3998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2" name="Text Box 12"/>
          <p:cNvSpPr/>
          <p:nvPr/>
        </p:nvSpPr>
        <p:spPr>
          <a:xfrm>
            <a:off x="4724280" y="4419720"/>
            <a:ext cx="1143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&lt;d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Text Box 14"/>
          <p:cNvSpPr/>
          <p:nvPr/>
        </p:nvSpPr>
        <p:spPr>
          <a:xfrm>
            <a:off x="5486400" y="49528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b &amp; c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4" name="Text Box 19"/>
          <p:cNvSpPr/>
          <p:nvPr/>
        </p:nvSpPr>
        <p:spPr>
          <a:xfrm>
            <a:off x="6002280" y="5308560"/>
            <a:ext cx="1143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&lt;d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5" name="Text Box 20"/>
          <p:cNvSpPr/>
          <p:nvPr/>
        </p:nvSpPr>
        <p:spPr>
          <a:xfrm>
            <a:off x="6588000" y="569736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 &amp; c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6" name="Text Box 21"/>
          <p:cNvSpPr/>
          <p:nvPr/>
        </p:nvSpPr>
        <p:spPr>
          <a:xfrm>
            <a:off x="7080120" y="5994360"/>
            <a:ext cx="1143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&lt;d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Text Box 22"/>
          <p:cNvSpPr/>
          <p:nvPr/>
        </p:nvSpPr>
        <p:spPr>
          <a:xfrm>
            <a:off x="3392640" y="556416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compar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736776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Consider all possible sorting trees.</a:t>
            </a:r>
            <a:br>
              <a:rPr sz="3600"/>
            </a:br>
            <a:r>
              <a:rPr b="0" lang="en-US" sz="2400" spc="-1" strike="noStrike">
                <a:solidFill>
                  <a:srgbClr val="669900"/>
                </a:solidFill>
                <a:latin typeface="Verdana"/>
              </a:rPr>
              <a:t>How many leaves must a sorting tree have to distinguish all</a:t>
            </a:r>
            <a:br>
              <a:rPr sz="2400"/>
            </a:br>
            <a:r>
              <a:rPr b="0" lang="en-US" sz="2400" spc="-1" strike="noStrike">
                <a:solidFill>
                  <a:srgbClr val="669900"/>
                </a:solidFill>
                <a:latin typeface="Verdana"/>
              </a:rPr>
              <a:t>possible orderings of n items?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721" name="Group 10"/>
          <p:cNvGrpSpPr/>
          <p:nvPr/>
        </p:nvGrpSpPr>
        <p:grpSpPr>
          <a:xfrm>
            <a:off x="2090880" y="2225520"/>
            <a:ext cx="4800600" cy="3817080"/>
            <a:chOff x="2090880" y="2225520"/>
            <a:chExt cx="4800600" cy="3817080"/>
          </a:xfrm>
        </p:grpSpPr>
        <p:sp>
          <p:nvSpPr>
            <p:cNvPr id="722" name="Line 3"/>
            <p:cNvSpPr/>
            <p:nvPr/>
          </p:nvSpPr>
          <p:spPr>
            <a:xfrm flipH="1">
              <a:off x="3081240" y="2247480"/>
              <a:ext cx="106668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3" name="Line 4"/>
            <p:cNvSpPr/>
            <p:nvPr/>
          </p:nvSpPr>
          <p:spPr>
            <a:xfrm>
              <a:off x="4148280" y="2247480"/>
              <a:ext cx="144792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4" name="AutoShape 5"/>
            <p:cNvSpPr/>
            <p:nvPr/>
          </p:nvSpPr>
          <p:spPr>
            <a:xfrm>
              <a:off x="2167200" y="3238200"/>
              <a:ext cx="1752480" cy="1828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5" name="AutoShape 6"/>
            <p:cNvSpPr/>
            <p:nvPr/>
          </p:nvSpPr>
          <p:spPr>
            <a:xfrm>
              <a:off x="4758120" y="3161880"/>
              <a:ext cx="1752480" cy="1828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6" name="Line 7"/>
            <p:cNvSpPr/>
            <p:nvPr/>
          </p:nvSpPr>
          <p:spPr>
            <a:xfrm>
              <a:off x="2090880" y="5295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7" name="Text Box 8"/>
            <p:cNvSpPr/>
            <p:nvPr/>
          </p:nvSpPr>
          <p:spPr>
            <a:xfrm>
              <a:off x="3295800" y="2225520"/>
              <a:ext cx="2286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[0]&lt;a[1]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8" name="Text Box 9"/>
            <p:cNvSpPr/>
            <p:nvPr/>
          </p:nvSpPr>
          <p:spPr>
            <a:xfrm>
              <a:off x="4300920" y="558288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How many leaves must there for a sorting tree for n items?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731" name="Group 10"/>
          <p:cNvGrpSpPr/>
          <p:nvPr/>
        </p:nvGrpSpPr>
        <p:grpSpPr>
          <a:xfrm>
            <a:off x="2235240" y="1792440"/>
            <a:ext cx="4800600" cy="3200400"/>
            <a:chOff x="2235240" y="1792440"/>
            <a:chExt cx="4800600" cy="3200400"/>
          </a:xfrm>
        </p:grpSpPr>
        <p:sp>
          <p:nvSpPr>
            <p:cNvPr id="732" name="Line 3"/>
            <p:cNvSpPr/>
            <p:nvPr/>
          </p:nvSpPr>
          <p:spPr>
            <a:xfrm flipH="1">
              <a:off x="3225600" y="1945080"/>
              <a:ext cx="106704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3" name="Line 4"/>
            <p:cNvSpPr/>
            <p:nvPr/>
          </p:nvSpPr>
          <p:spPr>
            <a:xfrm>
              <a:off x="4292640" y="1945080"/>
              <a:ext cx="144756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4" name="AutoShape 5"/>
            <p:cNvSpPr/>
            <p:nvPr/>
          </p:nvSpPr>
          <p:spPr>
            <a:xfrm>
              <a:off x="2311200" y="2935440"/>
              <a:ext cx="1752840" cy="1828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5" name="AutoShape 6"/>
            <p:cNvSpPr/>
            <p:nvPr/>
          </p:nvSpPr>
          <p:spPr>
            <a:xfrm>
              <a:off x="4902120" y="2859480"/>
              <a:ext cx="1752480" cy="1828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6" name="Line 7"/>
            <p:cNvSpPr/>
            <p:nvPr/>
          </p:nvSpPr>
          <p:spPr>
            <a:xfrm>
              <a:off x="2235240" y="499284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7" name="Text Box 8"/>
            <p:cNvSpPr/>
            <p:nvPr/>
          </p:nvSpPr>
          <p:spPr>
            <a:xfrm>
              <a:off x="3454200" y="1792440"/>
              <a:ext cx="2286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[0]&lt;a[1]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38" name="Text Box 9"/>
          <p:cNvSpPr/>
          <p:nvPr/>
        </p:nvSpPr>
        <p:spPr>
          <a:xfrm>
            <a:off x="609480" y="53928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!, the number of different permutations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71040" y="671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5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inary tree with n! leaves has depth at least lg n!. Notice that depth = the maximum number of tests one might have to perfo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g n! = lg n(n-1)(n-2)…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= lg n + lg n-1 + lg n-2 + … + lg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g n + … + lg(n/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n/2) lg(n/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n/2) lg n - n/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n lg 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rt algorithm tak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n lg n) comparisons.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s there a way to sort without using binary comparisons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685800" y="1981080"/>
            <a:ext cx="78487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nary comparisons, K-way comparisons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i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 log n) result will still be true, beca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Useful speed-up heuristic: use your data as an index of an array.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4200" y="2980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onsider sorting tray of letter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6" name="Text Box 3"/>
          <p:cNvSpPr/>
          <p:nvPr/>
        </p:nvSpPr>
        <p:spPr>
          <a:xfrm>
            <a:off x="608040" y="2036880"/>
            <a:ext cx="83059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counts[26]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j = 0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0; i&lt;26; i++) counts[i]=0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=0; j&lt;tray.length; j++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[tray[j]-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++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=0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0; i&lt;26; i++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count[i]-- &gt; 0) tray[j++]=i+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14200" y="2980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orting tray of letter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9" name="Text Box 3"/>
          <p:cNvSpPr/>
          <p:nvPr/>
        </p:nvSpPr>
        <p:spPr>
          <a:xfrm>
            <a:off x="1298520" y="1289160"/>
            <a:ext cx="6543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s[26]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 = 0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i=0; i&lt;26; i++) counts[i]=0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j=0; j&lt;tray.length; j++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[tray[j]-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++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=0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i=0; i&lt;26; i++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count[i]-- &gt; 0) tray[j++]=i+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925560" y="563724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ime i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6+tray.size()), i.e. </a:t>
            </a:r>
            <a:r>
              <a:rPr b="1" i="1" lang="en-US" sz="2400" spc="-1" strike="noStrike">
                <a:solidFill>
                  <a:srgbClr val="fa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1" name="Text Box 5"/>
          <p:cNvSpPr/>
          <p:nvPr/>
        </p:nvSpPr>
        <p:spPr>
          <a:xfrm>
            <a:off x="1096920" y="3927600"/>
            <a:ext cx="6566040" cy="157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ray =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bcabbda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= {3,4,1,1,0,1,0, …, 0}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new  tray =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abbbbcd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Why does this beat n log n?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71400" y="17146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perati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unt[tray[j]]++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like a 26-way test; the outcome depends directly on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ating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ecause it wo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 work if the data range grows from 26 to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 can still be useful — can break up range into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ckets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use mergesort on each buck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hat Does This Method Compute? 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5" name="TextBox 4"/>
          <p:cNvSpPr/>
          <p:nvPr/>
        </p:nvSpPr>
        <p:spPr>
          <a:xfrm>
            <a:off x="1112040" y="2502000"/>
            <a:ext cx="6764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oubleTheNumber(int m) {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 = m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n &gt; 1) {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n % 2 == 0) n = n / 2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 n = 3 * n + 1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2 * m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628320" y="180828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proof of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rmi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 needed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12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Sor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442800" y="9907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ay to exploit the data-driven idea for large data spaces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a: Sort the numbers by their </a:t>
            </a:r>
            <a:r>
              <a:rPr b="0" i="1" lang="en-US" sz="2400" spc="-1" strike="noStrike">
                <a:solidFill>
                  <a:srgbClr val="fa0000"/>
                </a:solidFill>
                <a:latin typeface="Verdana"/>
              </a:rPr>
              <a:t>lowest</a:t>
            </a: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git. Then sort them by the next lowest digit, being careful to break ties properly. Continue to highest digit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758" name="Object 2"/>
          <p:cNvGraphicFramePr/>
          <p:nvPr/>
        </p:nvGraphicFramePr>
        <p:xfrm>
          <a:off x="2513160" y="3270240"/>
          <a:ext cx="3962160" cy="318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3160" y="3270240"/>
                    <a:ext cx="396216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Rectangle 6"/>
          <p:cNvSpPr/>
          <p:nvPr/>
        </p:nvSpPr>
        <p:spPr>
          <a:xfrm>
            <a:off x="3003480" y="3286080"/>
            <a:ext cx="152640" cy="2438280"/>
          </a:xfrm>
          <a:prstGeom prst="rect">
            <a:avLst/>
          </a:prstGeom>
          <a:noFill/>
          <a:ln w="1908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1" name="Rectangle 7"/>
          <p:cNvSpPr/>
          <p:nvPr/>
        </p:nvSpPr>
        <p:spPr>
          <a:xfrm>
            <a:off x="3525840" y="3254400"/>
            <a:ext cx="152280" cy="2438280"/>
          </a:xfrm>
          <a:prstGeom prst="rect">
            <a:avLst/>
          </a:prstGeom>
          <a:noFill/>
          <a:ln w="1908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2" name="Rectangle 8"/>
          <p:cNvSpPr/>
          <p:nvPr/>
        </p:nvSpPr>
        <p:spPr>
          <a:xfrm>
            <a:off x="4079880" y="3340080"/>
            <a:ext cx="152280" cy="2438280"/>
          </a:xfrm>
          <a:prstGeom prst="rect">
            <a:avLst/>
          </a:prstGeom>
          <a:noFill/>
          <a:ln w="1908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3" name="Rectangle 9"/>
          <p:cNvSpPr/>
          <p:nvPr/>
        </p:nvSpPr>
        <p:spPr>
          <a:xfrm>
            <a:off x="4637160" y="3295800"/>
            <a:ext cx="152280" cy="2438280"/>
          </a:xfrm>
          <a:prstGeom prst="rect">
            <a:avLst/>
          </a:prstGeom>
          <a:noFill/>
          <a:ln w="1908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Sor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sort must be </a:t>
            </a:r>
            <a:r>
              <a:rPr b="1" i="1" lang="en-US" sz="2800" spc="-1" strike="noStrike">
                <a:solidFill>
                  <a:srgbClr val="fa0000"/>
                </a:solidFill>
                <a:latin typeface="Verdana"/>
              </a:rPr>
              <a:t>s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lative order of equal keys is pre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is way, the work done for earlier bits is not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on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573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Sor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880920" y="1511280"/>
            <a:ext cx="84582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l Algorithm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ort items A[i] with value 0…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1 (= INT_MAX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 table of 256 buckets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For every A[i] put it in bucket A[i] mod 256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 all the items from the buckets 0,…, 255 in a FIF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ner, re-packing them into A.}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using A[i]/256 mod 25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using A[i]/25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od 25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using A[i]/25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od 25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takes O(4*(256+A.length)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0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Sor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72" name="Text Box 4"/>
          <p:cNvSpPr/>
          <p:nvPr/>
        </p:nvSpPr>
        <p:spPr>
          <a:xfrm>
            <a:off x="1452600" y="1298520"/>
            <a:ext cx="7691400" cy="49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general it takes tim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 Passes*(NBuckets+A.length)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Passes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g(INT_MAX)/log(NBuckets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se we have n 4 digit numbers to sort and 1 bucket for each digit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sses = ceil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9999)/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0)) = 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 * ( 10 + n)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need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.length) in extra space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Next Tim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xt topic will be </a:t>
            </a:r>
            <a:r>
              <a:rPr b="1" i="1" lang="en-US" sz="2800" spc="-1" strike="noStrike">
                <a:solidFill>
                  <a:srgbClr val="fa0000"/>
                </a:solidFill>
                <a:latin typeface="Verdana"/>
              </a:rPr>
              <a:t>Quicksor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very fast, practical, and widely used algorith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e Jar Game 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8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TextBox 6"/>
          <p:cNvSpPr/>
          <p:nvPr/>
        </p:nvSpPr>
        <p:spPr>
          <a:xfrm>
            <a:off x="643320" y="2077920"/>
            <a:ext cx="78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jar contains n &gt;= 1 marbles. Each is of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or red or of blue. Also we have a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limited supply of red marbles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TextBox 7"/>
          <p:cNvSpPr/>
          <p:nvPr/>
        </p:nvSpPr>
        <p:spPr>
          <a:xfrm>
            <a:off x="698040" y="3848040"/>
            <a:ext cx="731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ll the following algorithm terminate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TextBox 8"/>
          <p:cNvSpPr/>
          <p:nvPr/>
        </p:nvSpPr>
        <p:spPr>
          <a:xfrm>
            <a:off x="773280" y="5138640"/>
            <a:ext cx="685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om http://www.cs.uofs.edu/~mccloske/courses/cmps144/invariants_lec.ht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e Jar Game 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507240" y="1481040"/>
            <a:ext cx="859320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# of marbles in the jar &gt; 1)  {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oose (any) two marbles from the jar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the two marbles are of the same color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 toss them aside;         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lace a RED marble into the jar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 {  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ss the chosen RED marble aside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lace the chosen BLUE marble back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o the jar;      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   }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ttp://www.cs.uofs.edu/~mccloske/courses/cmps144/invariants_lec.html</a:t>
            </a:r>
            <a:endParaRPr b="1" lang="en-US" sz="11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Find A Loop Invarien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we find a loop invariant that wi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us to prove the following theore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ast remaining ball will be blue if the initial number of blue balls was odd and red otherwis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TextBox 4"/>
          <p:cNvSpPr/>
          <p:nvPr/>
        </p:nvSpPr>
        <p:spPr>
          <a:xfrm>
            <a:off x="773280" y="5541840"/>
            <a:ext cx="685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om http://www.cs.uofs.edu/~mccloske/courses/cmps144/invariants_lec.ht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77720" y="258480"/>
            <a:ext cx="7966080" cy="22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tuitive Introduc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1009800" y="2222640"/>
            <a:ext cx="691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Main</a:t>
            </a:r>
            <a:r>
              <a:rPr b="0" lang="ja-JP" sz="24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’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s slides from Chapter 1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sertion Sor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72960" y="2428920"/>
            <a:ext cx="8001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insertionSort(int A[]) {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1; i&lt;A.length; i++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j=i; j&gt;0 &amp;&amp; A[j]&lt;A[j-1]; j--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(A[j],A[j-1])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Text Box 13"/>
          <p:cNvSpPr/>
          <p:nvPr/>
        </p:nvSpPr>
        <p:spPr>
          <a:xfrm>
            <a:off x="317520" y="1341360"/>
            <a:ext cx="835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each item once, insert into growing sorted section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sertion Sor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530280" y="1405080"/>
            <a:ext cx="8001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insertionSort(int A[]) {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=1; i&lt;A.length; i++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j=i; j&gt;0 &amp;&amp; A[j]&lt;A[j-1]; j--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ap(A[j],A[j-1]);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762120" y="3251160"/>
            <a:ext cx="795312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s i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where n = A.length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is sorted already, runs i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n)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if you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 in a hurry to code it , and speed is   not an issue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04:51Z</dcterms:created>
  <dc:creator>James H. Morris</dc:creator>
  <dc:description/>
  <dc:language>en-US</dc:language>
  <cp:lastModifiedBy>Michael J Mccarthy</cp:lastModifiedBy>
  <cp:lastPrinted>1999-02-08T20:32:46Z</cp:lastPrinted>
  <dcterms:modified xsi:type="dcterms:W3CDTF">2022-04-21T19:11:52Z</dcterms:modified>
  <cp:revision>124</cp:revision>
  <dc:subject/>
  <dc:title>Trees</dc:title>
</cp:coreProperties>
</file>