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BE7C-4A48-4FDD-BD08-A687C35B5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3E45-F0A4-4574-A9A1-8B83BFF5343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F42A46-1B95-40B9-83F5-0A8FB0F5F50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EB8A93-A4CE-4D7F-BA93-30363EFE297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7C9528-36FC-456C-88B1-E6DF6F43954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528487-61B0-4597-9445-5E82E904EC3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652357-9590-4FD5-8D71-B8E434271F1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D285C-0F24-42AF-8052-C34FF340344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43E1B8-8B3C-4CD4-B56B-0B83D60D61E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2CEC94-1A17-4E39-B221-96D54B8C49E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FCBD4D-3ACE-4D0C-9101-1EC5E571350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EDB5BF-7D0B-4801-9B2B-197A97D55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D646-A1DA-40A0-BA75-81CEF524BD8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768D18-0DB8-48AC-968A-ABA6522CF71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5C341A-2EA2-41A9-B30C-EAA9740CDF4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E10FE0-0BE8-4460-B7BC-79FFA6D4EC0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D00137-5743-4FFB-A9ED-85EAE3402F8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A9E6C1-3E38-4369-8AB8-A0B76FE4485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C2EE0B-5B55-463F-B297-1F13A96733D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08EB96-BDA8-4FDB-AFF6-66EEB3A7E02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90C994-DD31-4231-89AE-89371D04B2F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B7B9F9-EC31-4E0E-B46A-BD4802514EC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1A6EC1-E7E1-455D-9E90-2F820DFB3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39DE-05E4-43DC-B7D5-6E12DA820D3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691FC8-3030-4184-92F3-7CADCD10138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5F135-4295-4B73-8B94-92447AE7196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C4EFE-3A9F-4480-9AE6-6DE7C0C4D2E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2DBB2-5835-4B80-ACB3-A94AA0D6A1F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A98AA-C583-4491-8A7D-56887ED85AB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4F6AC-D2BE-4B97-B986-DB56BE7FFA6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5EFCE-9EA1-471A-A10A-E7DE0C490B3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E3F53-8DFA-491A-B24D-E8DE9B7593F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5976B-FA28-4EDB-B0C2-5E87850FE00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643C6-F3AC-4C66-9723-FF334FDF4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C88-E6BB-40CD-A10C-1F74226FDB1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22B98-1FCB-48F4-8D30-7BE00E41CAD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C3E89-97BC-4F1C-B4B7-2CF027B3C03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B9309-4A72-4984-92FB-2D8B93BE16B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35E8A3-8511-4AA5-91A1-5B1F87A3B9E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43B20E-6A83-462A-A518-01645670237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739B27-1DE3-4BD0-B584-4AD079266B4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608EC5-CA5D-4B50-AAA5-D70441FEED7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6232A0-1FA3-4880-93A7-2194E621A3A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8C7E5E-134E-40DC-8564-E1AC7414001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B66FC8-CD5B-40DA-86D3-055634DCDE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368-F1DE-4836-BF5C-0B0F14F0304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5A39CE-7FD0-457D-B916-852CE6D4693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CB5676-48BA-4779-8D03-0E1A5E74D00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10C396-F2D2-44D1-811D-EBA2979293C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3EBD77-97A3-45DD-A61E-93504FD9FA1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D28702-E3B0-47F8-816F-631EAC84F6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6E9C-46C5-49B3-B022-29C124D720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981-0FFC-45BD-93AF-BDB8817CAF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32BC-2685-4630-8CC4-D8E2C7657B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9E5-9BF6-4375-B27F-1E366E387A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74E-18C4-4028-AD8F-0C2EA7EAD3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EC51-DEE1-4B20-906E-2970F5BD6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B74-3E31-4678-B6A0-DA033E9DC7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5A0C-592D-4CE9-A7F4-E94475E763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9D2-8DA5-417A-9900-2ADF345FA0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E1D7-6B70-4C04-A6D8-AAE86FD962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5D2-ADE9-45C6-A075-7965AF54AC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41797-7E2B-46C6-BC98-73EBA63F52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1471E-B1E1-49AD-AEB3-B1EC0B7F39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5E02C-B51C-44EC-A8B4-44110D52FF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A7FB7-287B-428F-8BFF-6C92BA0BA9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5323A-5FA4-45DF-8915-A6E2742419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F7B6-C9B4-4DE4-BED5-D08C94A357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DBB76-029F-448D-9951-38A836AFBD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A16A0-50CB-4F23-B894-3C25F137F1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63B26-8F28-49A3-B9D4-43C07B17C9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0F29A-36BC-458F-82FB-D5E920C6C1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6DDE9-14B0-4640-B977-C151A241AF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05FCB-67D8-4DC3-B539-D427C4E7C3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CC0C9-2F34-4CE7-9F26-FDCB6BE1DB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D29A21-BF8E-44CF-B42A-C32472C43E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809ECA-A175-48B0-AE19-D483D54CE5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182508-88E8-448A-9B77-E017146C0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B6B7-7331-411E-B2DF-F370405CCC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974A17-1D5D-4A3B-B120-0B9373199A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09CBBA-229B-4BC6-8918-BB59801A867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6F210A-77C9-4B22-9A65-D35AD64D3F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330404-995F-40FF-B197-007A75A50B7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870DA4-5A50-4A5C-87FC-121CC47DB5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F9F70F-C2F1-4B39-AA15-BF4125AC478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A691CF-E85E-419B-B16E-C8DD68C6E6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B32513-1118-4B7B-8CD5-7441041EE9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ABB05F-FF0F-4C0C-8C54-5D9C45FFF1A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DBD98-32FB-4DD6-BA7C-395619D83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CC7D-8EBB-4D13-9AB2-C858ABD5961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68D9-C324-47CC-8A6B-B7133606456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B527A-F634-402C-B9FD-81AF69B3F3F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FCE85-59BB-4DE6-9629-17E234C8A1D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7F342-7C60-4864-A5E5-55FA1AFA530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E2323-C72B-49BC-B87B-4823FD77F1D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3D58B-885A-47DA-83E5-86AE5D5D0E1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EDB51-A18D-4530-8D9D-0302B8E9113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781AD-BF4C-4A3D-94D2-C22D2B98461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395BE-71B9-4D84-B932-B0C46DB61F3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AEEC4-A7BD-48C2-A552-78D31871F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7E2F-93DD-4D15-9C7A-25F485A63D2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7CEAE-66F1-4C48-AB09-45FD169F241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AF7B58-5E3A-42EC-A954-CFBC416BE26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7C52D5-1BC8-4803-A5C0-CBA21E85DFA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C8B2F9-4923-42D4-AE05-4D3878EB9CB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7C8748-7036-46C1-8C7E-3AB10776155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738F0E-53E0-4014-AB48-220442E55BF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BCF344-5D5C-4759-B245-E3D630E7507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AD6A99-3FAF-4D3D-B8AE-549F0BAFADC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19022C-51D2-46EA-9583-FB702197889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7FBC51-9885-45ED-B32F-8ED00DCEB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F9E2-D279-40EA-9BB0-80FB0821F6C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B0088-9ACB-4061-82FD-070C7893D7A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98BEE2-4444-40BE-A8A5-2F61C69ED4A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48A150-2A93-4393-9531-C87F23FB8BD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B92E3F-6A55-4A2A-8FFF-045D51E57EC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BD3809-E330-4E30-8D6B-EFAECF558BB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D6316F-63EB-435A-A522-7415651D69E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AEF1D1-E8AA-4071-8428-F614C217948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084716-9640-4CDA-A216-922E35050CA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A90184-300C-4833-BE31-566B95700E3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5C6E6F-3E72-410D-9BF2-EF1D9D7AE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63F0-2AA7-4A5A-803C-A472CF3F59D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D16194-78E8-4578-9C1F-DB551B58F07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1FD632-7EDD-4112-A728-B21FC595038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A3798A-86EA-45C8-B3E0-CDEA74B80C8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61F37F-5309-4228-90B9-EEC05E1E16C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751253-B89C-4F6E-B9C3-5C1634D5AC9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B37E4-6F11-4BA0-8421-922D4B8E513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4A1D0-6B01-452D-9F38-E3ADF619278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2ACC9-9C19-4A82-AEBD-29B78DCA2A5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D9AF1-D95A-4C18-B3A7-B1FBB4B7393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8CE4B-F443-464B-A375-265C64B35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3728-265D-4311-A3E4-C46F0A66053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F0401-BB3D-488A-905F-2BDD976A972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AD568-38F1-40B6-AFD2-DEB948BC676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D0FC6-EE77-4494-B7C7-060BEFE5374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E837F-B2F5-4F92-ABFD-F6DA55B806E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9810E-066F-40A1-A6F4-88355AE631A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B6778-5D33-4A91-8658-9241EB49F1E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B615E-658A-417B-B2F7-E4E4E6DCF8E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EFF835-DC54-49C6-B12A-B34B73560C5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32F5A4-144D-4A2B-BB27-7C988CA401F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7D6D3D-AA0F-4C71-9946-811A55997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C06C-CD5B-4000-A530-E2DC535BCD04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89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BE96-1582-4C57-BD14-D905C2EEC409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32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B91A-9498-4D00-A5E4-115432161244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75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FB30-0504-43C7-9E94-3C5E69083075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5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FDE3-2141-4677-A109-9473B76FA078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8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F9BD-AE71-4821-8593-902D61B78506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1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7120-C7A0-4D5C-BEE7-739FB4FD54A6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4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DF70-9ABF-4FE5-A31B-DFAE4308A435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17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8053-0A59-4F82-BC47-84C459F71813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60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2852-A526-4DA5-B61B-595542EE12A1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03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1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1589-8AFD-487B-ABAE-3F48686C6226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46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EE6F-1C26-4A6C-A25F-7A7604A9AEFB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2: S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%5C..%5C..%5C..%5CTEMP%5CContent.IE5%5CC1M3456V%5CMain_JAVA12.ppt" TargetMode="External"/><Relationship Id="rId2" Type="http://schemas.openxmlformats.org/officeDocument/2006/relationships/hyperlink" Target="file:///..%5C..%5C..%5C..%5CTEMP%5CContent.IE5%5CC1M3456V%5CMain_JAVA12.ppt" TargetMode="External"/><Relationship Id="rId3" Type="http://schemas.openxmlformats.org/officeDocument/2006/relationships/hyperlink" Target="file:///..%5C..%5C..%5C..%5CTEMP%5CContent.IE5%5CC1M3456V%5CMain_JAVA12.ppt" TargetMode="Externa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ata Structures and Algorithms for Information Process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cture 12: S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9" name="Object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roving Insertion Sort Correc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380880" y="2209680"/>
            <a:ext cx="66294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insertionSort(int A[]) {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nt i=1; i &lt; A.length; i++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nt j=i; j&gt;0 &amp;&amp; A[j]&lt;A[j-1]; j--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[j],A[j-1]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3" name="Text Box 18"/>
          <p:cNvSpPr/>
          <p:nvPr/>
        </p:nvSpPr>
        <p:spPr>
          <a:xfrm>
            <a:off x="533520" y="1447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invariant?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Rectangle 19"/>
          <p:cNvSpPr/>
          <p:nvPr/>
        </p:nvSpPr>
        <p:spPr>
          <a:xfrm>
            <a:off x="1066680" y="3657600"/>
            <a:ext cx="71629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5" name="Freeform 20"/>
          <p:cNvSpPr/>
          <p:nvPr/>
        </p:nvSpPr>
        <p:spPr>
          <a:xfrm>
            <a:off x="4349880" y="2652840"/>
            <a:ext cx="1409400" cy="990360"/>
          </a:xfrm>
          <a:custGeom>
            <a:avLst/>
            <a:gdLst>
              <a:gd name="textAreaLeft" fmla="*/ 0 w 1409400"/>
              <a:gd name="textAreaRight" fmla="*/ 1409760 w 14094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888" h="1008">
                <a:moveTo>
                  <a:pt x="576" y="0"/>
                </a:moveTo>
                <a:cubicBezTo>
                  <a:pt x="732" y="104"/>
                  <a:pt x="888" y="208"/>
                  <a:pt x="816" y="336"/>
                </a:cubicBezTo>
                <a:cubicBezTo>
                  <a:pt x="744" y="464"/>
                  <a:pt x="280" y="656"/>
                  <a:pt x="144" y="768"/>
                </a:cubicBezTo>
                <a:cubicBezTo>
                  <a:pt x="8" y="880"/>
                  <a:pt x="4" y="944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6" name="Rectangle 22"/>
          <p:cNvSpPr/>
          <p:nvPr/>
        </p:nvSpPr>
        <p:spPr>
          <a:xfrm>
            <a:off x="1066680" y="3657600"/>
            <a:ext cx="297180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7" name="Text Box 23"/>
          <p:cNvSpPr/>
          <p:nvPr/>
        </p:nvSpPr>
        <p:spPr>
          <a:xfrm>
            <a:off x="990720" y="449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8" name="Text Box 24"/>
          <p:cNvSpPr/>
          <p:nvPr/>
        </p:nvSpPr>
        <p:spPr>
          <a:xfrm>
            <a:off x="4114800" y="4495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9" name="Text Box 25"/>
          <p:cNvSpPr/>
          <p:nvPr/>
        </p:nvSpPr>
        <p:spPr>
          <a:xfrm>
            <a:off x="830592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0" name="Rectangle 26"/>
          <p:cNvSpPr/>
          <p:nvPr/>
        </p:nvSpPr>
        <p:spPr>
          <a:xfrm>
            <a:off x="4038480" y="3657600"/>
            <a:ext cx="685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1" name="Text Box 27"/>
          <p:cNvSpPr/>
          <p:nvPr/>
        </p:nvSpPr>
        <p:spPr>
          <a:xfrm>
            <a:off x="2286000" y="3809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2"/>
              <p:cNvSpPr txBox="1"/>
              <p:nvPr/>
            </p:nvSpPr>
            <p:spPr>
              <a:xfrm>
                <a:off x="2540160" y="4962600"/>
                <a:ext cx="43513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∀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u</m:t>
                        </m:r>
                        <m:r>
                          <m:t xml:space="preserve">&lt;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u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3" name="Text Box 29"/>
          <p:cNvSpPr/>
          <p:nvPr/>
        </p:nvSpPr>
        <p:spPr>
          <a:xfrm>
            <a:off x="434880" y="55530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=1, it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trivially true, When when i=n, array is sorted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Now consider inner loop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1189080" y="1271520"/>
            <a:ext cx="66294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insertionSort(int A[]) {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nt i=1; i &lt; A.length; i++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nt j=i; j&gt;0 &amp;&amp; A[j]&lt;A[j-1]; j--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[j],A[j-1]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2"/>
              <p:cNvSpPr txBox="1"/>
              <p:nvPr/>
            </p:nvSpPr>
            <p:spPr>
              <a:xfrm>
                <a:off x="826920" y="4618080"/>
                <a:ext cx="76917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∀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u</m:t>
                        </m:r>
                        <m:r>
                          <m:t xml:space="preserve">&lt;</m:t>
                        </m:r>
                        <m:r>
                          <m:t xml:space="preserve">j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u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∧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v</m:t>
                        </m:r>
                        <m:r>
                          <m:t xml:space="preserve">&lt;</m:t>
                        </m:r>
                        <m:r>
                          <m:t xml:space="preserve">w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8" name="Text Box 19"/>
          <p:cNvSpPr/>
          <p:nvPr/>
        </p:nvSpPr>
        <p:spPr>
          <a:xfrm>
            <a:off x="685800" y="5292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vially true when j=i,  and implies outer loop invariant when it exits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1120680" y="3990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5921280" y="3990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3787920" y="3990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2" name="Freeform 6"/>
          <p:cNvSpPr/>
          <p:nvPr/>
        </p:nvSpPr>
        <p:spPr>
          <a:xfrm>
            <a:off x="5845320" y="2467080"/>
            <a:ext cx="1409400" cy="685800"/>
          </a:xfrm>
          <a:custGeom>
            <a:avLst/>
            <a:gdLst>
              <a:gd name="textAreaLeft" fmla="*/ 0 w 1409400"/>
              <a:gd name="textAreaRight" fmla="*/ 1409760 w 14094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888" h="1008">
                <a:moveTo>
                  <a:pt x="576" y="0"/>
                </a:moveTo>
                <a:cubicBezTo>
                  <a:pt x="732" y="104"/>
                  <a:pt x="888" y="208"/>
                  <a:pt x="816" y="336"/>
                </a:cubicBezTo>
                <a:cubicBezTo>
                  <a:pt x="744" y="464"/>
                  <a:pt x="280" y="656"/>
                  <a:pt x="144" y="768"/>
                </a:cubicBezTo>
                <a:cubicBezTo>
                  <a:pt x="8" y="880"/>
                  <a:pt x="4" y="944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3" name="Text Box 10"/>
          <p:cNvSpPr/>
          <p:nvPr/>
        </p:nvSpPr>
        <p:spPr>
          <a:xfrm>
            <a:off x="8435880" y="3914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1197000" y="3152880"/>
            <a:ext cx="71629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1197000" y="3152880"/>
            <a:ext cx="510552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6" name="Text Box 12"/>
          <p:cNvSpPr/>
          <p:nvPr/>
        </p:nvSpPr>
        <p:spPr>
          <a:xfrm>
            <a:off x="2111400" y="330516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3711600" y="31528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8" name="Text Box 18"/>
          <p:cNvSpPr/>
          <p:nvPr/>
        </p:nvSpPr>
        <p:spPr>
          <a:xfrm>
            <a:off x="4778280" y="330516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9" name="Text Box 20"/>
          <p:cNvSpPr/>
          <p:nvPr/>
        </p:nvSpPr>
        <p:spPr>
          <a:xfrm>
            <a:off x="3559320" y="3457440"/>
            <a:ext cx="30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1174680" y="1150920"/>
            <a:ext cx="66294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insertionSort(int A[]) {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nt i=1; i &lt; A.length; i++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nt j=i; j&gt;0 &amp;&amp; A[j]&lt;A[j-1]; j--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[j],A[j-1]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82" name="Group 45"/>
          <p:cNvGrpSpPr/>
          <p:nvPr/>
        </p:nvGrpSpPr>
        <p:grpSpPr>
          <a:xfrm>
            <a:off x="1066680" y="2128680"/>
            <a:ext cx="8077320" cy="3644640"/>
            <a:chOff x="1066680" y="2128680"/>
            <a:chExt cx="8077320" cy="3644640"/>
          </a:xfrm>
        </p:grpSpPr>
        <p:sp>
          <p:nvSpPr>
            <p:cNvPr id="583" name="Rectangle 5"/>
            <p:cNvSpPr/>
            <p:nvPr/>
          </p:nvSpPr>
          <p:spPr>
            <a:xfrm>
              <a:off x="1447560" y="2814480"/>
              <a:ext cx="716292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4" name="Freeform 6"/>
            <p:cNvSpPr/>
            <p:nvPr/>
          </p:nvSpPr>
          <p:spPr>
            <a:xfrm>
              <a:off x="6095880" y="2128680"/>
              <a:ext cx="1409760" cy="68580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888" h="1008">
                  <a:moveTo>
                    <a:pt x="576" y="0"/>
                  </a:moveTo>
                  <a:cubicBezTo>
                    <a:pt x="732" y="104"/>
                    <a:pt x="888" y="208"/>
                    <a:pt x="816" y="336"/>
                  </a:cubicBezTo>
                  <a:cubicBezTo>
                    <a:pt x="744" y="464"/>
                    <a:pt x="280" y="656"/>
                    <a:pt x="144" y="768"/>
                  </a:cubicBezTo>
                  <a:cubicBezTo>
                    <a:pt x="8" y="880"/>
                    <a:pt x="4" y="944"/>
                    <a:pt x="0" y="10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5" name="Rectangle 7"/>
            <p:cNvSpPr/>
            <p:nvPr/>
          </p:nvSpPr>
          <p:spPr>
            <a:xfrm>
              <a:off x="1447560" y="2814480"/>
              <a:ext cx="5105520" cy="91440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6" name="Text Box 8"/>
            <p:cNvSpPr/>
            <p:nvPr/>
          </p:nvSpPr>
          <p:spPr>
            <a:xfrm>
              <a:off x="1371600" y="3652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7" name="Text Box 9"/>
            <p:cNvSpPr/>
            <p:nvPr/>
          </p:nvSpPr>
          <p:spPr>
            <a:xfrm>
              <a:off x="6172200" y="36525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8" name="Text Box 10"/>
            <p:cNvSpPr/>
            <p:nvPr/>
          </p:nvSpPr>
          <p:spPr>
            <a:xfrm>
              <a:off x="8686800" y="357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9" name="Text Box 11"/>
            <p:cNvSpPr/>
            <p:nvPr/>
          </p:nvSpPr>
          <p:spPr>
            <a:xfrm>
              <a:off x="2286000" y="296676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1" lang="en-US" sz="3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0" name="Text Box 12"/>
            <p:cNvSpPr/>
            <p:nvPr/>
          </p:nvSpPr>
          <p:spPr>
            <a:xfrm>
              <a:off x="4038480" y="3652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1" name="Line 14"/>
            <p:cNvSpPr/>
            <p:nvPr/>
          </p:nvSpPr>
          <p:spPr>
            <a:xfrm>
              <a:off x="3962160" y="2814480"/>
              <a:ext cx="0" cy="914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2" name="Text Box 15"/>
            <p:cNvSpPr/>
            <p:nvPr/>
          </p:nvSpPr>
          <p:spPr>
            <a:xfrm>
              <a:off x="5029200" y="296676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1" lang="en-US" sz="3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3" name="Text Box 17"/>
            <p:cNvSpPr/>
            <p:nvPr/>
          </p:nvSpPr>
          <p:spPr>
            <a:xfrm>
              <a:off x="3809880" y="40334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y&lt;x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4" name="Rectangle 18"/>
            <p:cNvSpPr/>
            <p:nvPr/>
          </p:nvSpPr>
          <p:spPr>
            <a:xfrm>
              <a:off x="3581280" y="2814480"/>
              <a:ext cx="38088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5" name="Rectangle 19"/>
            <p:cNvSpPr/>
            <p:nvPr/>
          </p:nvSpPr>
          <p:spPr>
            <a:xfrm>
              <a:off x="3962160" y="2814480"/>
              <a:ext cx="3812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6" name="Text Box 20"/>
            <p:cNvSpPr/>
            <p:nvPr/>
          </p:nvSpPr>
          <p:spPr>
            <a:xfrm>
              <a:off x="2438280" y="43383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o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7" name="Rectangle 21"/>
            <p:cNvSpPr/>
            <p:nvPr/>
          </p:nvSpPr>
          <p:spPr>
            <a:xfrm>
              <a:off x="1066680" y="4719240"/>
              <a:ext cx="27432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8" name="Rectangle 22"/>
            <p:cNvSpPr/>
            <p:nvPr/>
          </p:nvSpPr>
          <p:spPr>
            <a:xfrm>
              <a:off x="1066680" y="4719240"/>
              <a:ext cx="1905120" cy="76212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9" name="Text Box 23"/>
            <p:cNvSpPr/>
            <p:nvPr/>
          </p:nvSpPr>
          <p:spPr>
            <a:xfrm>
              <a:off x="1701360" y="48304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0" name="Rectangle 24"/>
            <p:cNvSpPr/>
            <p:nvPr/>
          </p:nvSpPr>
          <p:spPr>
            <a:xfrm>
              <a:off x="5867280" y="4643280"/>
              <a:ext cx="2743200" cy="76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1" name="Rectangle 25"/>
            <p:cNvSpPr/>
            <p:nvPr/>
          </p:nvSpPr>
          <p:spPr>
            <a:xfrm>
              <a:off x="5790960" y="4643280"/>
              <a:ext cx="2210040" cy="76176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2" name="Text Box 26"/>
            <p:cNvSpPr/>
            <p:nvPr/>
          </p:nvSpPr>
          <p:spPr>
            <a:xfrm>
              <a:off x="6060600" y="47541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3" name="Text Box 27"/>
            <p:cNvSpPr/>
            <p:nvPr/>
          </p:nvSpPr>
          <p:spPr>
            <a:xfrm>
              <a:off x="5790960" y="426204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yes, then swap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4" name="Text Box 28"/>
            <p:cNvSpPr/>
            <p:nvPr/>
          </p:nvSpPr>
          <p:spPr>
            <a:xfrm>
              <a:off x="3581280" y="3119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5" name="Text Box 29"/>
            <p:cNvSpPr/>
            <p:nvPr/>
          </p:nvSpPr>
          <p:spPr>
            <a:xfrm>
              <a:off x="3962160" y="3119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6" name="Text Box 34"/>
            <p:cNvSpPr/>
            <p:nvPr/>
          </p:nvSpPr>
          <p:spPr>
            <a:xfrm>
              <a:off x="6705360" y="48099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7" name="Text Box 35"/>
            <p:cNvSpPr/>
            <p:nvPr/>
          </p:nvSpPr>
          <p:spPr>
            <a:xfrm>
              <a:off x="6896160" y="479556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8" name="Text Box 36"/>
            <p:cNvSpPr/>
            <p:nvPr/>
          </p:nvSpPr>
          <p:spPr>
            <a:xfrm>
              <a:off x="7391160" y="4757400"/>
              <a:ext cx="35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9" name="Line 37"/>
            <p:cNvSpPr/>
            <p:nvPr/>
          </p:nvSpPr>
          <p:spPr>
            <a:xfrm>
              <a:off x="6705360" y="46432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0" name="Text Box 38"/>
            <p:cNvSpPr/>
            <p:nvPr/>
          </p:nvSpPr>
          <p:spPr>
            <a:xfrm>
              <a:off x="6629400" y="54050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j-1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1" name="Line 39"/>
            <p:cNvSpPr/>
            <p:nvPr/>
          </p:nvSpPr>
          <p:spPr>
            <a:xfrm flipH="1">
              <a:off x="3047760" y="4262040"/>
              <a:ext cx="6098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2" name="Line 41"/>
            <p:cNvSpPr/>
            <p:nvPr/>
          </p:nvSpPr>
          <p:spPr>
            <a:xfrm>
              <a:off x="4800600" y="4338360"/>
              <a:ext cx="9144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13" name="Text Box 42"/>
          <p:cNvSpPr/>
          <p:nvPr/>
        </p:nvSpPr>
        <p:spPr>
          <a:xfrm>
            <a:off x="912960" y="56134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 inner loop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4" name="Text Box 43"/>
          <p:cNvSpPr/>
          <p:nvPr/>
        </p:nvSpPr>
        <p:spPr>
          <a:xfrm>
            <a:off x="5257800" y="5653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--, continue loop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517320"/>
            <a:ext cx="9144000" cy="88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What happens inside inner loop?</a:t>
            </a:r>
            <a:br>
              <a:rPr sz="3600"/>
            </a:b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What is the Average Time for Insertion Sort?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304920" y="2093760"/>
            <a:ext cx="8458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ning time is proportional to number of swaps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swap of adjacent items decrease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isord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y one unit wher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order = number of i&lt;j such that A[i]&gt;A[j]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fore running time is proportional to disorder and average running time is proportional to average disorder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2092320" y="144288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Best i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), Worst i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042040" cy="11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verage disorder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622" name="Object 2"/>
          <p:cNvGraphicFramePr/>
          <p:nvPr/>
        </p:nvGraphicFramePr>
        <p:xfrm>
          <a:off x="2625840" y="1276200"/>
          <a:ext cx="5767200" cy="45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5840" y="1276200"/>
                    <a:ext cx="5767200" cy="45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Text Box 4"/>
          <p:cNvSpPr/>
          <p:nvPr/>
        </p:nvSpPr>
        <p:spPr>
          <a:xfrm>
            <a:off x="1571760" y="568944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n=4 Average disorder = 72/24 = 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What is the Average Disorder?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304920" y="1471680"/>
            <a:ext cx="84582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The average disorder for a sequence of n items is n(n-1)/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ssume all permutations of array A equally likely. If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reverse of A, then disorder(A) + disorder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n(n-1)/2 because A[i]&lt;A[j] iff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i]&gt;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j]. Thus the average disorder over all permutations is n(n-1)/4.  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The average running time of </a:t>
            </a:r>
            <a:r>
              <a:rPr b="0" i="1" lang="en-US" sz="2400" spc="-1" strike="noStrike">
                <a:solidFill>
                  <a:srgbClr val="fa0000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orting program that swaps only adjacent elements i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It will have to do n(n-1)/4 swaps and may waste time in other ways.  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-360" y="835200"/>
            <a:ext cx="88470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o better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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(n</a:t>
            </a:r>
            <a:r>
              <a:rPr b="0" lang="en-US" sz="4400" spc="-1" strike="noStrike" baseline="30000">
                <a:solidFill>
                  <a:srgbClr val="3333cc"/>
                </a:solidFill>
                <a:latin typeface="Verdana"/>
              </a:rPr>
              <a:t>2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) we must compare non-adjacent element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762120" y="2854440"/>
            <a:ext cx="8381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ell Sort: Swap elements n/2, n/4, … apart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p Sort: Swap A[i] with A[i/2]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ickSort: Swap around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an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dea of Merge Sor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elements to be sorted into two groups of equal s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rt each hal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rge the results using a simultaneous pass through ea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suedocode for Merge Sor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 mergesort(int data[], int first, int n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n &gt; 1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n1 = n/2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n2 = n - n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sort(data, first, n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sort(data, first+n1, n2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(data, first, n1, n2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How fast could a sort that uses binary comparisons run?</a:t>
            </a:r>
            <a:br>
              <a:rPr sz="4000"/>
            </a:b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685800" y="17524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4 numbers, a, b, c, d. Merge Sort approa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0" name="Text Box 38"/>
          <p:cNvSpPr/>
          <p:nvPr/>
        </p:nvSpPr>
        <p:spPr>
          <a:xfrm>
            <a:off x="7442280" y="53499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b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amp;b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1" name="Text Box 40"/>
          <p:cNvSpPr/>
          <p:nvPr/>
        </p:nvSpPr>
        <p:spPr>
          <a:xfrm>
            <a:off x="434880" y="5318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&lt;a&lt;b&amp;c&lt;d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2" name="Text Box 39"/>
          <p:cNvSpPr/>
          <p:nvPr/>
        </p:nvSpPr>
        <p:spPr>
          <a:xfrm>
            <a:off x="6167520" y="5398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d&lt;b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amp;d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43" name="Group 43"/>
          <p:cNvGrpSpPr/>
          <p:nvPr/>
        </p:nvGrpSpPr>
        <p:grpSpPr>
          <a:xfrm>
            <a:off x="1366920" y="2503440"/>
            <a:ext cx="7010280" cy="3050280"/>
            <a:chOff x="1366920" y="2503440"/>
            <a:chExt cx="7010280" cy="3050280"/>
          </a:xfrm>
        </p:grpSpPr>
        <p:sp>
          <p:nvSpPr>
            <p:cNvPr id="644" name="Text Box 9"/>
            <p:cNvSpPr/>
            <p:nvPr/>
          </p:nvSpPr>
          <p:spPr>
            <a:xfrm>
              <a:off x="3957480" y="2503440"/>
              <a:ext cx="1067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&lt;b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5" name="Text Box 10"/>
            <p:cNvSpPr/>
            <p:nvPr/>
          </p:nvSpPr>
          <p:spPr>
            <a:xfrm>
              <a:off x="3424320" y="2884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6" name="Text Box 11"/>
            <p:cNvSpPr/>
            <p:nvPr/>
          </p:nvSpPr>
          <p:spPr>
            <a:xfrm>
              <a:off x="5100480" y="2884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7" name="Text Box 12"/>
            <p:cNvSpPr/>
            <p:nvPr/>
          </p:nvSpPr>
          <p:spPr>
            <a:xfrm>
              <a:off x="2738520" y="3417840"/>
              <a:ext cx="10666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&lt;d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8" name="Text Box 13"/>
            <p:cNvSpPr/>
            <p:nvPr/>
          </p:nvSpPr>
          <p:spPr>
            <a:xfrm>
              <a:off x="5253120" y="3417840"/>
              <a:ext cx="10666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&lt;d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9" name="Text Box 14"/>
            <p:cNvSpPr/>
            <p:nvPr/>
          </p:nvSpPr>
          <p:spPr>
            <a:xfrm>
              <a:off x="2357280" y="3798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0" name="Text Box 15"/>
            <p:cNvSpPr/>
            <p:nvPr/>
          </p:nvSpPr>
          <p:spPr>
            <a:xfrm>
              <a:off x="4948200" y="3798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6243480" y="3798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2" name="Text Box 17"/>
            <p:cNvSpPr/>
            <p:nvPr/>
          </p:nvSpPr>
          <p:spPr>
            <a:xfrm>
              <a:off x="3728880" y="38750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3" name="Text Box 18"/>
            <p:cNvSpPr/>
            <p:nvPr/>
          </p:nvSpPr>
          <p:spPr>
            <a:xfrm>
              <a:off x="1671480" y="4484520"/>
              <a:ext cx="1067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&lt;a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4" name="Text Box 19"/>
            <p:cNvSpPr/>
            <p:nvPr/>
          </p:nvSpPr>
          <p:spPr>
            <a:xfrm>
              <a:off x="3500280" y="4484520"/>
              <a:ext cx="1067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&lt;a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5" name="Text Box 20"/>
            <p:cNvSpPr/>
            <p:nvPr/>
          </p:nvSpPr>
          <p:spPr>
            <a:xfrm>
              <a:off x="5024520" y="4484520"/>
              <a:ext cx="10666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&lt;b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6" name="Text Box 21"/>
            <p:cNvSpPr/>
            <p:nvPr/>
          </p:nvSpPr>
          <p:spPr>
            <a:xfrm>
              <a:off x="6700680" y="4484520"/>
              <a:ext cx="1067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&lt;b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7" name="Text Box 23"/>
            <p:cNvSpPr/>
            <p:nvPr/>
          </p:nvSpPr>
          <p:spPr>
            <a:xfrm>
              <a:off x="1366920" y="4865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8" name="Text Box 24"/>
            <p:cNvSpPr/>
            <p:nvPr/>
          </p:nvSpPr>
          <p:spPr>
            <a:xfrm>
              <a:off x="3348000" y="4941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9" name="Text Box 25"/>
            <p:cNvSpPr/>
            <p:nvPr/>
          </p:nvSpPr>
          <p:spPr>
            <a:xfrm>
              <a:off x="4414680" y="4941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0" name="Text Box 26"/>
            <p:cNvSpPr/>
            <p:nvPr/>
          </p:nvSpPr>
          <p:spPr>
            <a:xfrm>
              <a:off x="2585880" y="4941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1" name="Text Box 27"/>
            <p:cNvSpPr/>
            <p:nvPr/>
          </p:nvSpPr>
          <p:spPr>
            <a:xfrm>
              <a:off x="4948200" y="4865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2" name="Text Box 28"/>
            <p:cNvSpPr/>
            <p:nvPr/>
          </p:nvSpPr>
          <p:spPr>
            <a:xfrm>
              <a:off x="6548400" y="4865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3" name="Text Box 29"/>
            <p:cNvSpPr/>
            <p:nvPr/>
          </p:nvSpPr>
          <p:spPr>
            <a:xfrm>
              <a:off x="7691400" y="4865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4" name="Text Box 30"/>
            <p:cNvSpPr/>
            <p:nvPr/>
          </p:nvSpPr>
          <p:spPr>
            <a:xfrm>
              <a:off x="6014880" y="4865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5" name="Text Box 36"/>
            <p:cNvSpPr/>
            <p:nvPr/>
          </p:nvSpPr>
          <p:spPr>
            <a:xfrm>
              <a:off x="6700680" y="395136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0000"/>
                  </a:solidFill>
                  <a:latin typeface="Courier New"/>
                </a:rPr>
                <a:t>b</a:t>
              </a:r>
              <a:r>
                <a:rPr b="1" lang="en-US" sz="1400" spc="-1" strike="noStrike">
                  <a:solidFill>
                    <a:srgbClr val="fa0000"/>
                  </a:solidFill>
                  <a:latin typeface="Symbol"/>
                  <a:ea typeface="Symbol"/>
                </a:rPr>
                <a:t></a:t>
              </a:r>
              <a:r>
                <a:rPr b="1" lang="en-US" sz="1400" spc="-1" strike="noStrike">
                  <a:solidFill>
                    <a:srgbClr val="fa0000"/>
                  </a:solidFill>
                  <a:latin typeface="Courier New"/>
                </a:rPr>
                <a:t>a&amp;d</a:t>
              </a:r>
              <a:r>
                <a:rPr b="1" lang="en-US" sz="1400" spc="-1" strike="noStrike">
                  <a:solidFill>
                    <a:srgbClr val="fa0000"/>
                  </a:solidFill>
                  <a:latin typeface="Symbol"/>
                  <a:ea typeface="Symbol"/>
                </a:rPr>
                <a:t></a:t>
              </a:r>
              <a:r>
                <a:rPr b="1" lang="en-US" sz="1400" spc="-1" strike="noStrike">
                  <a:solidFill>
                    <a:srgbClr val="fa0000"/>
                  </a:solidFill>
                  <a:latin typeface="Courier New"/>
                </a:rPr>
                <a:t>c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6" name="Text Box 42"/>
            <p:cNvSpPr/>
            <p:nvPr/>
          </p:nvSpPr>
          <p:spPr>
            <a:xfrm>
              <a:off x="2205000" y="52466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0000"/>
                  </a:solidFill>
                  <a:latin typeface="Courier New"/>
                </a:rPr>
                <a:t>a&lt;b&amp;a</a:t>
              </a:r>
              <a:r>
                <a:rPr b="1" lang="en-US" sz="1400" spc="-1" strike="noStrike">
                  <a:solidFill>
                    <a:srgbClr val="fa0000"/>
                  </a:solidFill>
                  <a:latin typeface="Symbol"/>
                  <a:ea typeface="Symbol"/>
                </a:rPr>
                <a:t></a:t>
              </a:r>
              <a:r>
                <a:rPr b="1" lang="en-US" sz="1400" spc="-1" strike="noStrike">
                  <a:solidFill>
                    <a:srgbClr val="fa0000"/>
                  </a:solidFill>
                  <a:latin typeface="Courier New"/>
                </a:rPr>
                <a:t>c&lt;d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Outlin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5440" y="228420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9880" indent="-38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197000"/>
                <a:tab algn="l" pos="1314360"/>
                <a:tab algn="l" pos="1460520"/>
                <a:tab algn="l" pos="1606680"/>
                <a:tab algn="l" pos="1752480"/>
                <a:tab algn="l" pos="1898640"/>
                <a:tab algn="l" pos="2044800"/>
                <a:tab algn="l" pos="2190600"/>
                <a:tab algn="l" pos="2336760"/>
                <a:tab algn="l" pos="2482920"/>
                <a:tab algn="l" pos="2629080"/>
                <a:tab algn="l" pos="2774880"/>
                <a:tab algn="l" pos="2921040"/>
                <a:tab algn="l" pos="3067200"/>
                <a:tab algn="l" pos="3213000"/>
                <a:tab algn="l" pos="3359160"/>
                <a:tab algn="l" pos="3505320"/>
                <a:tab algn="l" pos="3651120"/>
                <a:tab algn="l" pos="3797280"/>
                <a:tab algn="l" pos="3943440"/>
                <a:tab algn="l" pos="4089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ness proof digre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9880" indent="-38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197000"/>
                <a:tab algn="l" pos="1314360"/>
                <a:tab algn="l" pos="1460520"/>
                <a:tab algn="l" pos="1606680"/>
                <a:tab algn="l" pos="1752480"/>
                <a:tab algn="l" pos="1898640"/>
                <a:tab algn="l" pos="2044800"/>
                <a:tab algn="l" pos="2190600"/>
                <a:tab algn="l" pos="2336760"/>
                <a:tab algn="l" pos="2482920"/>
                <a:tab algn="l" pos="2629080"/>
                <a:tab algn="l" pos="2774880"/>
                <a:tab algn="l" pos="2921040"/>
                <a:tab algn="l" pos="3067200"/>
                <a:tab algn="l" pos="3213000"/>
                <a:tab algn="l" pos="3359160"/>
                <a:tab algn="l" pos="3505320"/>
                <a:tab algn="l" pos="3651120"/>
                <a:tab algn="l" pos="3797280"/>
                <a:tab algn="l" pos="3943440"/>
                <a:tab algn="l" pos="4089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various sorts, analy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9880" indent="-38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197000"/>
                <a:tab algn="l" pos="1314360"/>
                <a:tab algn="l" pos="1460520"/>
                <a:tab algn="l" pos="1606680"/>
                <a:tab algn="l" pos="1752480"/>
                <a:tab algn="l" pos="1898640"/>
                <a:tab algn="l" pos="2044800"/>
                <a:tab algn="l" pos="2190600"/>
                <a:tab algn="l" pos="2336760"/>
                <a:tab algn="l" pos="2482920"/>
                <a:tab algn="l" pos="2629080"/>
                <a:tab algn="l" pos="2774880"/>
                <a:tab algn="l" pos="2921040"/>
                <a:tab algn="l" pos="3067200"/>
                <a:tab algn="l" pos="3213000"/>
                <a:tab algn="l" pos="3359160"/>
                <a:tab algn="l" pos="3505320"/>
                <a:tab algn="l" pos="3651120"/>
                <a:tab algn="l" pos="3797280"/>
                <a:tab algn="l" pos="3943440"/>
                <a:tab algn="l" pos="4089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ion, Selection, Merge, Radi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9880" indent="-38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197000"/>
                <a:tab algn="l" pos="1314360"/>
                <a:tab algn="l" pos="1460520"/>
                <a:tab algn="l" pos="1606680"/>
                <a:tab algn="l" pos="1752480"/>
                <a:tab algn="l" pos="1898640"/>
                <a:tab algn="l" pos="2044800"/>
                <a:tab algn="l" pos="2190600"/>
                <a:tab algn="l" pos="2336760"/>
                <a:tab algn="l" pos="2482920"/>
                <a:tab algn="l" pos="2629080"/>
                <a:tab algn="l" pos="2774880"/>
                <a:tab algn="l" pos="2921040"/>
                <a:tab algn="l" pos="3067200"/>
                <a:tab algn="l" pos="3213000"/>
                <a:tab algn="l" pos="3359160"/>
                <a:tab algn="l" pos="3505320"/>
                <a:tab algn="l" pos="3651120"/>
                <a:tab algn="l" pos="3797280"/>
                <a:tab algn="l" pos="3943440"/>
                <a:tab algn="l" pos="4089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per &amp; Lower Bo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9880" indent="-38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197000"/>
                <a:tab algn="l" pos="1314360"/>
                <a:tab algn="l" pos="1460520"/>
                <a:tab algn="l" pos="1606680"/>
                <a:tab algn="l" pos="1752480"/>
                <a:tab algn="l" pos="1898640"/>
                <a:tab algn="l" pos="2044800"/>
                <a:tab algn="l" pos="2190600"/>
                <a:tab algn="l" pos="2336760"/>
                <a:tab algn="l" pos="2482920"/>
                <a:tab algn="l" pos="2629080"/>
                <a:tab algn="l" pos="2774880"/>
                <a:tab algn="l" pos="2921040"/>
                <a:tab algn="l" pos="3067200"/>
                <a:tab algn="l" pos="3213000"/>
                <a:tab algn="l" pos="3359160"/>
                <a:tab algn="l" pos="3505320"/>
                <a:tab algn="l" pos="3651120"/>
                <a:tab algn="l" pos="3797280"/>
                <a:tab algn="l" pos="3943440"/>
                <a:tab algn="l" pos="4089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x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3581280" y="1371600"/>
            <a:ext cx="10670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&lt;b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304812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472428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2362320" y="2286000"/>
            <a:ext cx="1066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&lt;d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2" name="Text Box 8"/>
          <p:cNvSpPr/>
          <p:nvPr/>
        </p:nvSpPr>
        <p:spPr>
          <a:xfrm>
            <a:off x="4876920" y="2286000"/>
            <a:ext cx="1066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&lt;d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3" name="Text Box 13"/>
          <p:cNvSpPr/>
          <p:nvPr/>
        </p:nvSpPr>
        <p:spPr>
          <a:xfrm>
            <a:off x="1295280" y="3352680"/>
            <a:ext cx="10670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&lt;a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3124080" y="3352680"/>
            <a:ext cx="10670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&lt;a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5" name="Text Box 15"/>
          <p:cNvSpPr/>
          <p:nvPr/>
        </p:nvSpPr>
        <p:spPr>
          <a:xfrm>
            <a:off x="4648320" y="3352680"/>
            <a:ext cx="1066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&lt;b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6" name="Text Box 16"/>
          <p:cNvSpPr/>
          <p:nvPr/>
        </p:nvSpPr>
        <p:spPr>
          <a:xfrm>
            <a:off x="6324480" y="3352680"/>
            <a:ext cx="10670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&lt;b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7" name="Text Box 25"/>
          <p:cNvSpPr/>
          <p:nvPr/>
        </p:nvSpPr>
        <p:spPr>
          <a:xfrm>
            <a:off x="5791320" y="2819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b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amp;d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8" name="Text Box 26"/>
          <p:cNvSpPr/>
          <p:nvPr/>
        </p:nvSpPr>
        <p:spPr>
          <a:xfrm>
            <a:off x="7315200" y="38862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b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amp;b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9" name="Text Box 27"/>
          <p:cNvSpPr/>
          <p:nvPr/>
        </p:nvSpPr>
        <p:spPr>
          <a:xfrm>
            <a:off x="5791320" y="38862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d&lt;b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amp;d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0" name="Text Box 28"/>
          <p:cNvSpPr/>
          <p:nvPr/>
        </p:nvSpPr>
        <p:spPr>
          <a:xfrm>
            <a:off x="304920" y="38862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&lt;a&lt;b&amp;c&lt;d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1" name="Text Box 29"/>
          <p:cNvSpPr/>
          <p:nvPr/>
        </p:nvSpPr>
        <p:spPr>
          <a:xfrm>
            <a:off x="1295280" y="4724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lt;b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&lt;d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sk only questions you don</a:t>
            </a:r>
            <a:r>
              <a:rPr b="0" lang="ja-JP" sz="4400" spc="-1" strike="noStrike">
                <a:solidFill>
                  <a:srgbClr val="3333cc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 know answers to.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3" name="Text Box 31"/>
          <p:cNvSpPr/>
          <p:nvPr/>
        </p:nvSpPr>
        <p:spPr>
          <a:xfrm>
            <a:off x="1981080" y="4191120"/>
            <a:ext cx="10670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&lt;c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4" name="Text Box 34"/>
          <p:cNvSpPr/>
          <p:nvPr/>
        </p:nvSpPr>
        <p:spPr>
          <a:xfrm>
            <a:off x="1828800" y="38862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lt;b&amp;a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&lt;d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5" name="Text Box 35"/>
          <p:cNvSpPr/>
          <p:nvPr/>
        </p:nvSpPr>
        <p:spPr>
          <a:xfrm>
            <a:off x="2819520" y="47242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lt;b &amp; a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&lt;d &amp; c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6" name="Text Box 36"/>
          <p:cNvSpPr/>
          <p:nvPr/>
        </p:nvSpPr>
        <p:spPr>
          <a:xfrm>
            <a:off x="3048120" y="5105520"/>
            <a:ext cx="12189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&lt;d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7" name="Text Box 37"/>
          <p:cNvSpPr/>
          <p:nvPr/>
        </p:nvSpPr>
        <p:spPr>
          <a:xfrm>
            <a:off x="4114800" y="56386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&lt;d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8" name="Text Box 38"/>
          <p:cNvSpPr/>
          <p:nvPr/>
        </p:nvSpPr>
        <p:spPr>
          <a:xfrm>
            <a:off x="2286000" y="5562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b&lt;d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9" name="Text Box 39"/>
          <p:cNvSpPr/>
          <p:nvPr/>
        </p:nvSpPr>
        <p:spPr>
          <a:xfrm>
            <a:off x="2857680" y="602136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compare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0" name="Text Box 40"/>
          <p:cNvSpPr/>
          <p:nvPr/>
        </p:nvSpPr>
        <p:spPr>
          <a:xfrm>
            <a:off x="635040" y="4878360"/>
            <a:ext cx="23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compare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 different strategy, insertion sorts, may get lucky.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693" name="Group 24"/>
          <p:cNvGrpSpPr/>
          <p:nvPr/>
        </p:nvGrpSpPr>
        <p:grpSpPr>
          <a:xfrm>
            <a:off x="1857240" y="2079720"/>
            <a:ext cx="4952880" cy="3142440"/>
            <a:chOff x="1857240" y="2079720"/>
            <a:chExt cx="4952880" cy="3142440"/>
          </a:xfrm>
        </p:grpSpPr>
        <p:sp>
          <p:nvSpPr>
            <p:cNvPr id="694" name="Text Box 2"/>
            <p:cNvSpPr/>
            <p:nvPr/>
          </p:nvSpPr>
          <p:spPr>
            <a:xfrm>
              <a:off x="4981320" y="2079720"/>
              <a:ext cx="1067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&lt;b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5" name="Text Box 3"/>
            <p:cNvSpPr/>
            <p:nvPr/>
          </p:nvSpPr>
          <p:spPr>
            <a:xfrm>
              <a:off x="4448160" y="246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6" name="Text Box 4"/>
            <p:cNvSpPr/>
            <p:nvPr/>
          </p:nvSpPr>
          <p:spPr>
            <a:xfrm>
              <a:off x="6124320" y="246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7" name="Text Box 5"/>
            <p:cNvSpPr/>
            <p:nvPr/>
          </p:nvSpPr>
          <p:spPr>
            <a:xfrm>
              <a:off x="3762360" y="2994120"/>
              <a:ext cx="10666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b&lt;c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2847960" y="3679920"/>
              <a:ext cx="10666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&lt;d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9" name="Text Box 14"/>
            <p:cNvSpPr/>
            <p:nvPr/>
          </p:nvSpPr>
          <p:spPr>
            <a:xfrm>
              <a:off x="1857240" y="42894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0000"/>
                  </a:solidFill>
                  <a:latin typeface="Courier New"/>
                </a:rPr>
                <a:t>a&lt;b&lt;c&lt;d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0" name="Text Box 23"/>
            <p:cNvSpPr/>
            <p:nvPr/>
          </p:nvSpPr>
          <p:spPr>
            <a:xfrm>
              <a:off x="1992240" y="4762440"/>
              <a:ext cx="22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 compare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2" name="Text Box 2"/>
          <p:cNvSpPr/>
          <p:nvPr/>
        </p:nvSpPr>
        <p:spPr>
          <a:xfrm>
            <a:off x="3581280" y="1676520"/>
            <a:ext cx="10670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&lt;b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3" name="Text Box 3"/>
          <p:cNvSpPr/>
          <p:nvPr/>
        </p:nvSpPr>
        <p:spPr>
          <a:xfrm>
            <a:off x="30481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472428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2362320" y="2590920"/>
            <a:ext cx="1066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&lt;c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1447920" y="3276720"/>
            <a:ext cx="1066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&lt;d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7" name="Text Box 7"/>
          <p:cNvSpPr/>
          <p:nvPr/>
        </p:nvSpPr>
        <p:spPr>
          <a:xfrm>
            <a:off x="457200" y="38862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lt;b&lt;c&lt;d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ut it may be unlucky.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3429000" y="3124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lt;b &amp; c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3505320" y="3505320"/>
            <a:ext cx="1066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&lt;c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1" name="Text Box 11"/>
          <p:cNvSpPr/>
          <p:nvPr/>
        </p:nvSpPr>
        <p:spPr>
          <a:xfrm>
            <a:off x="4651200" y="3998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lt;b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2" name="Text Box 12"/>
          <p:cNvSpPr/>
          <p:nvPr/>
        </p:nvSpPr>
        <p:spPr>
          <a:xfrm>
            <a:off x="4724280" y="4419720"/>
            <a:ext cx="11430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&lt;d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3" name="Text Box 14"/>
          <p:cNvSpPr/>
          <p:nvPr/>
        </p:nvSpPr>
        <p:spPr>
          <a:xfrm>
            <a:off x="5486400" y="49528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b &amp; c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lt;b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4" name="Text Box 19"/>
          <p:cNvSpPr/>
          <p:nvPr/>
        </p:nvSpPr>
        <p:spPr>
          <a:xfrm>
            <a:off x="6002280" y="5308560"/>
            <a:ext cx="11430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&lt;d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5" name="Text Box 20"/>
          <p:cNvSpPr/>
          <p:nvPr/>
        </p:nvSpPr>
        <p:spPr>
          <a:xfrm>
            <a:off x="6588000" y="569736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 &amp; c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lt;b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6" name="Text Box 21"/>
          <p:cNvSpPr/>
          <p:nvPr/>
        </p:nvSpPr>
        <p:spPr>
          <a:xfrm>
            <a:off x="7080120" y="5994360"/>
            <a:ext cx="11430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&lt;d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7" name="Text Box 22"/>
          <p:cNvSpPr/>
          <p:nvPr/>
        </p:nvSpPr>
        <p:spPr>
          <a:xfrm>
            <a:off x="3392640" y="5564160"/>
            <a:ext cx="21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compar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8" name="Text Box 23"/>
          <p:cNvSpPr/>
          <p:nvPr/>
        </p:nvSpPr>
        <p:spPr>
          <a:xfrm>
            <a:off x="736776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c</a:t>
            </a:r>
            <a:r>
              <a:rPr b="1" lang="en-US" sz="1400" spc="-1" strike="noStrike">
                <a:solidFill>
                  <a:srgbClr val="fa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a0000"/>
                </a:solidFill>
                <a:latin typeface="Courier New"/>
              </a:rPr>
              <a:t>a&lt;b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Consider all possible sorting trees.</a:t>
            </a:r>
            <a:br>
              <a:rPr sz="3600"/>
            </a:br>
            <a:r>
              <a:rPr b="0" lang="en-US" sz="2400" spc="-1" strike="noStrike">
                <a:solidFill>
                  <a:srgbClr val="669900"/>
                </a:solidFill>
                <a:latin typeface="Verdana"/>
              </a:rPr>
              <a:t>How many leaves must a sorting tree have to distinguish all</a:t>
            </a:r>
            <a:br>
              <a:rPr sz="2400"/>
            </a:br>
            <a:r>
              <a:rPr b="0" lang="en-US" sz="2400" spc="-1" strike="noStrike">
                <a:solidFill>
                  <a:srgbClr val="669900"/>
                </a:solidFill>
                <a:latin typeface="Verdana"/>
              </a:rPr>
              <a:t>possible orderings of n items?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721" name="Group 10"/>
          <p:cNvGrpSpPr/>
          <p:nvPr/>
        </p:nvGrpSpPr>
        <p:grpSpPr>
          <a:xfrm>
            <a:off x="2090880" y="2225520"/>
            <a:ext cx="4800600" cy="3817080"/>
            <a:chOff x="2090880" y="2225520"/>
            <a:chExt cx="4800600" cy="3817080"/>
          </a:xfrm>
        </p:grpSpPr>
        <p:sp>
          <p:nvSpPr>
            <p:cNvPr id="722" name="Line 3"/>
            <p:cNvSpPr/>
            <p:nvPr/>
          </p:nvSpPr>
          <p:spPr>
            <a:xfrm flipH="1">
              <a:off x="3081240" y="2247480"/>
              <a:ext cx="106668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3" name="Line 4"/>
            <p:cNvSpPr/>
            <p:nvPr/>
          </p:nvSpPr>
          <p:spPr>
            <a:xfrm>
              <a:off x="4148280" y="2247480"/>
              <a:ext cx="144792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4" name="AutoShape 5"/>
            <p:cNvSpPr/>
            <p:nvPr/>
          </p:nvSpPr>
          <p:spPr>
            <a:xfrm>
              <a:off x="2167200" y="3238200"/>
              <a:ext cx="1752480" cy="182880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5" name="AutoShape 6"/>
            <p:cNvSpPr/>
            <p:nvPr/>
          </p:nvSpPr>
          <p:spPr>
            <a:xfrm>
              <a:off x="4758120" y="3161880"/>
              <a:ext cx="1752480" cy="182880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6" name="Line 7"/>
            <p:cNvSpPr/>
            <p:nvPr/>
          </p:nvSpPr>
          <p:spPr>
            <a:xfrm>
              <a:off x="2090880" y="5295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7" name="Text Box 8"/>
            <p:cNvSpPr/>
            <p:nvPr/>
          </p:nvSpPr>
          <p:spPr>
            <a:xfrm>
              <a:off x="3295800" y="2225520"/>
              <a:ext cx="2286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[0]&lt;a[1]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8" name="Text Box 9"/>
            <p:cNvSpPr/>
            <p:nvPr/>
          </p:nvSpPr>
          <p:spPr>
            <a:xfrm>
              <a:off x="4300920" y="558288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How many leaves must there for a sorting tree for n items?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731" name="Group 10"/>
          <p:cNvGrpSpPr/>
          <p:nvPr/>
        </p:nvGrpSpPr>
        <p:grpSpPr>
          <a:xfrm>
            <a:off x="2235240" y="1792440"/>
            <a:ext cx="4800600" cy="3200400"/>
            <a:chOff x="2235240" y="1792440"/>
            <a:chExt cx="4800600" cy="3200400"/>
          </a:xfrm>
        </p:grpSpPr>
        <p:sp>
          <p:nvSpPr>
            <p:cNvPr id="732" name="Line 3"/>
            <p:cNvSpPr/>
            <p:nvPr/>
          </p:nvSpPr>
          <p:spPr>
            <a:xfrm flipH="1">
              <a:off x="3225600" y="1945080"/>
              <a:ext cx="106704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3" name="Line 4"/>
            <p:cNvSpPr/>
            <p:nvPr/>
          </p:nvSpPr>
          <p:spPr>
            <a:xfrm>
              <a:off x="4292640" y="1945080"/>
              <a:ext cx="144756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4" name="AutoShape 5"/>
            <p:cNvSpPr/>
            <p:nvPr/>
          </p:nvSpPr>
          <p:spPr>
            <a:xfrm>
              <a:off x="2311200" y="2935440"/>
              <a:ext cx="1752840" cy="182880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5" name="AutoShape 6"/>
            <p:cNvSpPr/>
            <p:nvPr/>
          </p:nvSpPr>
          <p:spPr>
            <a:xfrm>
              <a:off x="4902120" y="2859480"/>
              <a:ext cx="1752480" cy="182880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6" name="Line 7"/>
            <p:cNvSpPr/>
            <p:nvPr/>
          </p:nvSpPr>
          <p:spPr>
            <a:xfrm>
              <a:off x="2235240" y="499284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7" name="Text Box 8"/>
            <p:cNvSpPr/>
            <p:nvPr/>
          </p:nvSpPr>
          <p:spPr>
            <a:xfrm>
              <a:off x="3454200" y="1792440"/>
              <a:ext cx="2286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[0]&lt;a[1]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38" name="Text Box 9"/>
          <p:cNvSpPr/>
          <p:nvPr/>
        </p:nvSpPr>
        <p:spPr>
          <a:xfrm>
            <a:off x="609480" y="53928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!, the number of different permutations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71040" y="6714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500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inary tree with n! leaves has depth at least lg n!. Notice that depth = the maximum number of tests one might have to perfor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g n! = lg n(n-1)(n-2)…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= lg n + lg n-1 + lg n-2 + … + lg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g n + … + lg(n/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n/2) lg(n/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n/2) lg n - n/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n lg 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ort algorithm tak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n lg n) comparisons.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s there a way to sort without using binary comparisons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685800" y="1981080"/>
            <a:ext cx="784872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nary comparisons, K-way comparisons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si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 log n) result will still be true, beca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)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)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Useful speed-up heuristic: use your data as an index of an array.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14200" y="2980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onsider sorting tray of letter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46" name="Text Box 3"/>
          <p:cNvSpPr/>
          <p:nvPr/>
        </p:nvSpPr>
        <p:spPr>
          <a:xfrm>
            <a:off x="608040" y="2036880"/>
            <a:ext cx="83059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counts[26]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j = 0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nt i=0; i&lt;26; i++) counts[i]=0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j=0; j&lt;tray.length; j++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[tray[j]-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++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=0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nt i=0; i&lt;26; i++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(count[i]-- &gt; 0) tray[j++]=i+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14200" y="2980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orting tray of letter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49" name="Text Box 3"/>
          <p:cNvSpPr/>
          <p:nvPr/>
        </p:nvSpPr>
        <p:spPr>
          <a:xfrm>
            <a:off x="1298520" y="1289160"/>
            <a:ext cx="6543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s[26]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 = 0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nt i=0; i&lt;26; i++) counts[i]=0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j=0; j&lt;tray.length; j++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[tray[j]-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]++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=0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nt i=0; i&lt;26; i++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count[i]-- &gt; 0) tray[j++]=i+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925560" y="563724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ime i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6+tray.size()), i.e. </a:t>
            </a:r>
            <a:r>
              <a:rPr b="1" i="1" lang="en-US" sz="2400" spc="-1" strike="noStrike">
                <a:solidFill>
                  <a:srgbClr val="fa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1" name="Text Box 5"/>
          <p:cNvSpPr/>
          <p:nvPr/>
        </p:nvSpPr>
        <p:spPr>
          <a:xfrm>
            <a:off x="1096920" y="3927600"/>
            <a:ext cx="6566040" cy="157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ray =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bcabbda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= {3,4,1,1,0,1,0, …, 0}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new  tray =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abbbbcd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Why does this beat n log n?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71400" y="17146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perati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unt[tray[j]]++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like a 26-way test; the outcome depends directly on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ating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ecause it won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 work if the data range grows from 26 to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 can still be useful — can break up range into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ckets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use mergesort on each buck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What Does This Method Compute? 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5" name="TextBox 4"/>
          <p:cNvSpPr/>
          <p:nvPr/>
        </p:nvSpPr>
        <p:spPr>
          <a:xfrm>
            <a:off x="1112040" y="2502000"/>
            <a:ext cx="6764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oubleTheNumber(int m) {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n = m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(n &gt; 1) {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n % 2 == 0) n = n / 2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 n = 3 * n + 1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2 * m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6628320" y="1808280"/>
            <a:ext cx="21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proof of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rmin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s needed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12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adix Sor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7" name="Text Box 3"/>
          <p:cNvSpPr/>
          <p:nvPr/>
        </p:nvSpPr>
        <p:spPr>
          <a:xfrm>
            <a:off x="442800" y="990720"/>
            <a:ext cx="8458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ay to exploit the data-driven idea for large data spaces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a: Sort the numbers by their </a:t>
            </a:r>
            <a:r>
              <a:rPr b="0" i="1" lang="en-US" sz="2400" spc="-1" strike="noStrike">
                <a:solidFill>
                  <a:srgbClr val="fa0000"/>
                </a:solidFill>
                <a:latin typeface="Verdana"/>
              </a:rPr>
              <a:t>lowest</a:t>
            </a: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git. Then sort them by the next lowest digit, being careful to break ties properly. Continue to highest digit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758" name="Object 2"/>
          <p:cNvGraphicFramePr/>
          <p:nvPr/>
        </p:nvGraphicFramePr>
        <p:xfrm>
          <a:off x="2513160" y="3270240"/>
          <a:ext cx="3962160" cy="318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3160" y="3270240"/>
                    <a:ext cx="396216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0" name="Rectangle 6"/>
          <p:cNvSpPr/>
          <p:nvPr/>
        </p:nvSpPr>
        <p:spPr>
          <a:xfrm>
            <a:off x="3003480" y="3286080"/>
            <a:ext cx="152640" cy="2438280"/>
          </a:xfrm>
          <a:prstGeom prst="rect">
            <a:avLst/>
          </a:prstGeom>
          <a:noFill/>
          <a:ln w="1908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1" name="Rectangle 7"/>
          <p:cNvSpPr/>
          <p:nvPr/>
        </p:nvSpPr>
        <p:spPr>
          <a:xfrm>
            <a:off x="3525840" y="3254400"/>
            <a:ext cx="152280" cy="2438280"/>
          </a:xfrm>
          <a:prstGeom prst="rect">
            <a:avLst/>
          </a:prstGeom>
          <a:noFill/>
          <a:ln w="1908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2" name="Rectangle 8"/>
          <p:cNvSpPr/>
          <p:nvPr/>
        </p:nvSpPr>
        <p:spPr>
          <a:xfrm>
            <a:off x="4079880" y="3340080"/>
            <a:ext cx="152280" cy="2438280"/>
          </a:xfrm>
          <a:prstGeom prst="rect">
            <a:avLst/>
          </a:prstGeom>
          <a:noFill/>
          <a:ln w="1908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3" name="Rectangle 9"/>
          <p:cNvSpPr/>
          <p:nvPr/>
        </p:nvSpPr>
        <p:spPr>
          <a:xfrm>
            <a:off x="4637160" y="3295800"/>
            <a:ext cx="152280" cy="2438280"/>
          </a:xfrm>
          <a:prstGeom prst="rect">
            <a:avLst/>
          </a:prstGeom>
          <a:noFill/>
          <a:ln w="1908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adix Sor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sort must be </a:t>
            </a:r>
            <a:r>
              <a:rPr b="1" i="1" lang="en-US" sz="2800" spc="-1" strike="noStrike">
                <a:solidFill>
                  <a:srgbClr val="fa0000"/>
                </a:solidFill>
                <a:latin typeface="Verdana"/>
              </a:rPr>
              <a:t>s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lative order of equal keys is preser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is way, the work done for earlier bits is not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on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573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adix Sor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69" name="Text Box 3"/>
          <p:cNvSpPr/>
          <p:nvPr/>
        </p:nvSpPr>
        <p:spPr>
          <a:xfrm>
            <a:off x="880920" y="1511280"/>
            <a:ext cx="84582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l Algorithm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ort items A[i] with value 0…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1 (= INT_MAX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a table of 256 buckets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For every A[i] put it in bucket A[i] mod 256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e all the items from the buckets 0,…, 255 in a FIF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ner, re-packing them into A.}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at using A[i]/256 mod 25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at using A[i]/25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od 25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at using A[i]/25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od 25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takes O(4*(256+A.length)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0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adix Sor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72" name="Text Box 4"/>
          <p:cNvSpPr/>
          <p:nvPr/>
        </p:nvSpPr>
        <p:spPr>
          <a:xfrm>
            <a:off x="1452600" y="1298520"/>
            <a:ext cx="7691400" cy="49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general it takes tim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 Passes*(NBuckets+A.length)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Passes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g(INT_MAX)/log(NBuckets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se we have n 4 digit numbers to sort and 1 bucket for each digit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sses = ceil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9999)/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0)) = 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 * ( 10 + n)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need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.length) in extra space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Next Tim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xt topic will be </a:t>
            </a:r>
            <a:r>
              <a:rPr b="1" i="1" lang="en-US" sz="2800" spc="-1" strike="noStrike">
                <a:solidFill>
                  <a:srgbClr val="fa0000"/>
                </a:solidFill>
                <a:latin typeface="Verdana"/>
              </a:rPr>
              <a:t>Quicksor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very fast, practical, and widely used algorith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he Jar Game 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8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9" name="TextBox 6"/>
          <p:cNvSpPr/>
          <p:nvPr/>
        </p:nvSpPr>
        <p:spPr>
          <a:xfrm>
            <a:off x="643320" y="2077920"/>
            <a:ext cx="786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jar contains n &gt;= 1 marbles. Each is of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lor red or of blue. Also we have a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limited supply of red marbles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0" name="TextBox 7"/>
          <p:cNvSpPr/>
          <p:nvPr/>
        </p:nvSpPr>
        <p:spPr>
          <a:xfrm>
            <a:off x="698040" y="3848040"/>
            <a:ext cx="731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ill the following algorithm terminate?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1" name="TextBox 8"/>
          <p:cNvSpPr/>
          <p:nvPr/>
        </p:nvSpPr>
        <p:spPr>
          <a:xfrm>
            <a:off x="773280" y="5138640"/>
            <a:ext cx="685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rom http://www.cs.uofs.edu/~mccloske/courses/cmps144/invariants_lec.ht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he Jar Game 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3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507240" y="1481040"/>
            <a:ext cx="859320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# of marbles in the jar &gt; 1)  {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oose (any) two marbles from the jar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the two marbles are of the same color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 toss them aside;         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lace a RED marble into the jar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 {  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ss the chosen RED marble aside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lace the chosen BLUE marble back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o the jar;      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   }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ttp://www.cs.uofs.edu/~mccloske/courses/cmps144/invariants_lec.html</a:t>
            </a:r>
            <a:endParaRPr b="1" lang="en-US" sz="11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Find A Loop Invarien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we find a loop invariant that wi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 us to prove the following theore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ast remaining ball will be blue if the initial number of blue balls was odd and red otherwis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8" name="TextBox 4"/>
          <p:cNvSpPr/>
          <p:nvPr/>
        </p:nvSpPr>
        <p:spPr>
          <a:xfrm>
            <a:off x="773280" y="5541840"/>
            <a:ext cx="685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rom http://www.cs.uofs.edu/~mccloske/courses/cmps144/invariants_lec.htm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77720" y="258480"/>
            <a:ext cx="7966080" cy="22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ntuitive Introduc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1009800" y="2222640"/>
            <a:ext cx="691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Main</a:t>
            </a:r>
            <a:r>
              <a:rPr b="0" lang="ja-JP" sz="24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’</a:t>
            </a:r>
            <a:r>
              <a:rPr b="0" lang="en-US" sz="24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s slides from Chapter 1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nsertion Sor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72960" y="2428920"/>
            <a:ext cx="8001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insertionSort(int A[]) {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nt i=1; i&lt;A.length; i++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nt j=i; j&gt;0 &amp;&amp; A[j]&lt;A[j-1]; j--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ap(A[j],A[j-1])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5" name="Text Box 13"/>
          <p:cNvSpPr/>
          <p:nvPr/>
        </p:nvSpPr>
        <p:spPr>
          <a:xfrm>
            <a:off x="317520" y="1341360"/>
            <a:ext cx="835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each item once, insert into growing sorted section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2: Sor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nsertion Sor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530280" y="1405080"/>
            <a:ext cx="8001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insertionSort(int A[]) {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i=1; i&lt;A.length; i++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j=i; j&gt;0 &amp;&amp; A[j]&lt;A[j-1]; j--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ap(A[j],A[j-1]);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762120" y="3251160"/>
            <a:ext cx="795312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s i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, where n = A.length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 is sorted already, runs i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n)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if you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 in a hurry to code it , and speed is   not an issue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8:04:51Z</dcterms:created>
  <dc:creator>James H. Morris</dc:creator>
  <dc:description/>
  <dc:language>en-US</dc:language>
  <cp:lastModifiedBy>Michael J Mccarthy</cp:lastModifiedBy>
  <cp:lastPrinted>1999-02-08T20:32:46Z</cp:lastPrinted>
  <dcterms:modified xsi:type="dcterms:W3CDTF">2022-04-21T19:11:52Z</dcterms:modified>
  <cp:revision>124</cp:revision>
  <dc:subject/>
  <dc:title>Trees</dc:title>
</cp:coreProperties>
</file>